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0A3-5668-4B18-8029-B643FE62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F16-8559-48B9-B75B-2470CED4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3AB-C7C3-4943-AFF8-13A39152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7A3-AB5C-488A-A2E9-EB2228C2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979-CDF3-472D-B82F-5764D3DC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C97-8CA6-4E74-AAD4-E633C60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BBD-D016-432B-8120-514E4ADF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926-F3DA-4A37-ABD7-B3ABB379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70F-119E-4BA5-973E-0A6440B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9EC-9A3E-4CD9-A88F-E8EEDE0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852-2F77-4BB5-B113-3151DD4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676-CAB4-42D6-B8B8-20B3C0B7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8351-4F03-43E8-8200-9EE5BBBF94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-protetik.cz/grafika/castecna-amputace-3.jpg&amp;imgrefurl=http://www.ms-protetik.cz/rservice.php%3Fakce%3Dtisk%26cisloclanku%3D2006100052&amp;h=210&amp;w=270&amp;sz=14&amp;hl=cs&amp;start=11&amp;tbnid=_Slgt_6PkU_zXM:&amp;tbnh=88&amp;tbnw=113&amp;prev=/images%3Fq%3Damputace%26ndsp%3D18%26hl%3Dcs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ampu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Jak k těmto úrazům docház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ůsobením ostrých předmět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nůž, sekyra, 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Zachycení pohyblivými mechanis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stroje, mlýnek, mix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14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Mechanizmus úra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3" descr="castecna-amputace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786040"/>
            <a:ext cx="2247840" cy="17510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2" name="TextovéPole 7"/>
          <p:cNvSpPr/>
          <p:nvPr/>
        </p:nvSpPr>
        <p:spPr>
          <a:xfrm>
            <a:off x="6286680" y="471492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www.ms-proteti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2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Zastavení krvác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14c8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c8c"/>
                </a:solidFill>
                <a:latin typeface="Tahoma"/>
                <a:ea typeface="Tahoma"/>
              </a:rPr>
              <a:t>vysoké amputac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– tlakový obvaz, v případě masivního krvácení přiložení zaškrcova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14c8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c8c"/>
                </a:solidFill>
                <a:latin typeface="Tahoma"/>
                <a:ea typeface="Tahoma"/>
              </a:rPr>
              <a:t>nízké amputac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– tlakový obvaz, elevace konče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2</a:t>
            </a: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.</a:t>
            </a: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	</a:t>
            </a: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řivolat ZZS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Ošetření amputá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sterilně zab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vložit amputát do sá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sáček s amputátem vložit do sáčku se studenou vod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cs-CZ" sz="2000" spc="-1" strike="noStrike">
                <a:solidFill>
                  <a:srgbClr val="ff3300"/>
                </a:solidFill>
                <a:latin typeface="Tahoma"/>
                <a:ea typeface="Tahoma"/>
              </a:rPr>
              <a:t>Nikdy nevkládat amputát přímo na led nebo do vod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sejmout0023"/>
          <p:cNvPicPr/>
          <p:nvPr/>
        </p:nvPicPr>
        <p:blipFill>
          <a:blip r:embed="rId1"/>
          <a:stretch/>
        </p:blipFill>
        <p:spPr>
          <a:xfrm>
            <a:off x="2158920" y="1739880"/>
            <a:ext cx="4826160" cy="4246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00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Ošetření amputá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6284520" y="64292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ČČK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8:45:39Z</dcterms:created>
  <dc:creator>C</dc:creator>
  <dc:description/>
  <dc:language>en-US</dc:language>
  <cp:lastModifiedBy>Your User Name</cp:lastModifiedBy>
  <dcterms:modified xsi:type="dcterms:W3CDTF">2009-03-22T19:30:20Z</dcterms:modified>
  <cp:revision>35</cp:revision>
  <dc:subject/>
  <dc:title>Amputace</dc:title>
</cp:coreProperties>
</file>