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401-E232-4075-B507-D377F4CC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679-98E4-4B8B-8259-C2825FDE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A63-5BC4-40A3-80A7-9A3665FA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E75-6814-476E-B4FF-2A59CCE5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FFA-3B66-4DF5-9B7D-59962DA7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09C-FCC6-41AB-B661-971BE2A4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067-4961-47F1-87CB-63F9A165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11D-59EE-47CF-A63E-599EBE0B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DD2-A999-4454-8EE5-A2408999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42A-422D-4204-8ABA-013A0791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E85-BDDC-49A1-ADFC-B8BFA25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F2B-E420-4AC8-BFDB-BB43DDF7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555C-7BFC-4DAF-8336-DB61C0824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14800" y="25714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4c8c"/>
                </a:solidFill>
                <a:latin typeface="Tahoma"/>
                <a:ea typeface="Tahoma"/>
              </a:rPr>
              <a:t>intoxikace (otrav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Lé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První pomo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při pozření vyvolat zvracení; u bezvědomých zvracení nevyvolá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volání ZZS 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Ot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4"/>
          <p:cNvSpPr/>
          <p:nvPr/>
        </p:nvSpPr>
        <p:spPr>
          <a:xfrm>
            <a:off x="2376360" y="846000"/>
            <a:ext cx="676764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Alkoh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úrazy spojeny zejména s úrazy hl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oruchy koordinace, agresi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Ot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římá spojovací čára 4"/>
          <p:cNvSpPr/>
          <p:nvPr/>
        </p:nvSpPr>
        <p:spPr>
          <a:xfrm>
            <a:off x="2376360" y="846000"/>
            <a:ext cx="676764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__KPR 040"/>
          <p:cNvPicPr/>
          <p:nvPr/>
        </p:nvPicPr>
        <p:blipFill>
          <a:blip r:embed="rId1"/>
          <a:srcRect l="0" t="31248" r="0" b="18752"/>
          <a:stretch/>
        </p:blipFill>
        <p:spPr>
          <a:xfrm>
            <a:off x="4038480" y="3200400"/>
            <a:ext cx="4876920" cy="1828800"/>
          </a:xfrm>
          <a:prstGeom prst="rect">
            <a:avLst/>
          </a:prstGeom>
          <a:ln w="63360">
            <a:solidFill>
              <a:srgbClr val="014f8c">
                <a:alpha val="20000"/>
              </a:srgbClr>
            </a:solidFill>
            <a:miter/>
          </a:ln>
        </p:spPr>
      </p:pic>
      <p:sp>
        <p:nvSpPr>
          <p:cNvPr id="200" name="TextovéPole 6"/>
          <p:cNvSpPr/>
          <p:nvPr/>
        </p:nvSpPr>
        <p:spPr>
          <a:xfrm>
            <a:off x="457200" y="3429000"/>
            <a:ext cx="8458200" cy="28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ahoma"/>
                <a:ea typeface="Tahoma"/>
              </a:rPr>
              <a:t>První pomo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Rauteko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zotavovací poloh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revence vdechnutí zvratků, sledování základních životních funk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ovéPole 4"/>
          <p:cNvSpPr/>
          <p:nvPr/>
        </p:nvSpPr>
        <p:spPr>
          <a:xfrm>
            <a:off x="7083000" y="504036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Zuchová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záměna lah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zvědavost dě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nhalační otravy (nátěry, výfukové plyny, CO,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hou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bevraždy, vraž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zneužití lé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Uchovat vzorek látky pro záchrannou službu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4c8c"/>
                </a:solidFill>
                <a:latin typeface="Tahoma"/>
                <a:ea typeface="Tahoma"/>
              </a:rPr>
              <a:t>Způsoby vzniku otrav a polept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4"/>
          <p:cNvSpPr/>
          <p:nvPr/>
        </p:nvSpPr>
        <p:spPr>
          <a:xfrm>
            <a:off x="8099280" y="846000"/>
            <a:ext cx="104472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sejmout0003"/>
          <p:cNvPicPr/>
          <p:nvPr/>
        </p:nvPicPr>
        <p:blipFill>
          <a:blip r:embed="rId1"/>
          <a:stretch/>
        </p:blipFill>
        <p:spPr>
          <a:xfrm>
            <a:off x="1405080" y="1600200"/>
            <a:ext cx="6333840" cy="4591080"/>
          </a:xfrm>
          <a:prstGeom prst="rect">
            <a:avLst/>
          </a:prstGeom>
          <a:ln w="63360">
            <a:solidFill>
              <a:srgbClr val="014f8c">
                <a:alpha val="20000"/>
              </a:srgbClr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5349240" y="6248520"/>
            <a:ext cx="234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eggenhoff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rev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římá spojovací čára 6"/>
          <p:cNvSpPr/>
          <p:nvPr/>
        </p:nvSpPr>
        <p:spPr>
          <a:xfrm>
            <a:off x="2994120" y="846000"/>
            <a:ext cx="615636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eznámým prostředkem -&gt; oplachovat dlouho studenou vodou, sterilní kry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roud směřovat mimo nezasažená mí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97ab"/>
                </a:solidFill>
                <a:latin typeface="Tahoma"/>
                <a:ea typeface="Tahoma"/>
              </a:rPr>
              <a:t>Pozo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7ab"/>
                </a:solidFill>
                <a:latin typeface="Tahoma"/>
                <a:ea typeface="Tahoma"/>
              </a:rPr>
              <a:t>Vše s ohledem na vlastní bezpečnost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oleptání kůž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římá spojovací čára 4"/>
          <p:cNvSpPr/>
          <p:nvPr/>
        </p:nvSpPr>
        <p:spPr>
          <a:xfrm>
            <a:off x="4282920" y="846000"/>
            <a:ext cx="486108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kamžité oplachování dlouho studenou vodou – min. 15 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roud směřovat mimo nezasaženého 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neneutralizova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7ab"/>
                </a:solidFill>
                <a:latin typeface="Tahoma"/>
                <a:ea typeface="Tahoma"/>
              </a:rPr>
              <a:t>Otočit víčko – vápn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oleptání o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římá spojovací čára 7"/>
          <p:cNvSpPr/>
          <p:nvPr/>
        </p:nvSpPr>
        <p:spPr>
          <a:xfrm>
            <a:off x="3962520" y="846000"/>
            <a:ext cx="518472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sejmout0014"/>
          <p:cNvPicPr/>
          <p:nvPr/>
        </p:nvPicPr>
        <p:blipFill>
          <a:blip r:embed="rId1"/>
          <a:srcRect l="0" t="33214" r="3895" b="8107"/>
          <a:stretch/>
        </p:blipFill>
        <p:spPr>
          <a:xfrm>
            <a:off x="763560" y="3886200"/>
            <a:ext cx="7616880" cy="2728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6625440" y="639756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</a:t>
            </a:r>
            <a:r>
              <a:rPr b="1" lang="cs-CZ" sz="1400" spc="-1" strike="noStrike">
                <a:solidFill>
                  <a:srgbClr val="000000"/>
                </a:solidFill>
                <a:latin typeface="Tahoma"/>
                <a:ea typeface="Tahoma"/>
              </a:rPr>
              <a:t>Flegel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ezprostředně po úraze vypít větší množství vody – min. 0,5 li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olání ZZS 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kontrola základních životních fun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Nevyvolávat zvracení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átky, u kterých zvracení nevyvolává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97ab"/>
                </a:solidFill>
                <a:latin typeface="Tahoma"/>
                <a:ea typeface="Tahoma"/>
              </a:rPr>
              <a:t>kyselina, zásada, petrolej,  benzín a saponá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ožití chemikál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he13"/>
          <p:cNvPicPr/>
          <p:nvPr/>
        </p:nvPicPr>
        <p:blipFill>
          <a:blip r:embed="rId1"/>
          <a:stretch/>
        </p:blipFill>
        <p:spPr>
          <a:xfrm>
            <a:off x="6885000" y="2286000"/>
            <a:ext cx="2030400" cy="4330800"/>
          </a:xfrm>
          <a:prstGeom prst="rect">
            <a:avLst/>
          </a:prstGeom>
          <a:ln w="0">
            <a:noFill/>
          </a:ln>
        </p:spPr>
      </p:pic>
      <p:sp>
        <p:nvSpPr>
          <p:cNvPr id="183" name="Přímá spojovací čára 5"/>
          <p:cNvSpPr/>
          <p:nvPr/>
        </p:nvSpPr>
        <p:spPr>
          <a:xfrm>
            <a:off x="4608360" y="846000"/>
            <a:ext cx="453564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697ab"/>
                </a:solidFill>
                <a:latin typeface="Tahoma"/>
                <a:ea typeface="Tahoma"/>
              </a:rPr>
              <a:t>Fridex</a:t>
            </a:r>
            <a:r>
              <a:rPr b="0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nemrznoucí směs do chladičů aut – smrtelná dávka 100 ml, vstřebání i kůží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ahoma"/>
                <a:ea typeface="Tahoma"/>
              </a:rPr>
              <a:t>První pomo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zvracení, tvrdý alkohol 40% a více -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rozumně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volání ZZS 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Ot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římá spojovací čára 4"/>
          <p:cNvSpPr/>
          <p:nvPr/>
        </p:nvSpPr>
        <p:spPr>
          <a:xfrm>
            <a:off x="2376360" y="846000"/>
            <a:ext cx="676764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Ho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olesti břicha, poruchy vidění, slinění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První pomo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vyvolat zvracení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teplá slaná voda nebo mechanicky), zajistit žaludeční obsah pro záchrannou služ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u bezvědomého zvracení nevyvolává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olání ZZS 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Ot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římá spojovací čára 4"/>
          <p:cNvSpPr/>
          <p:nvPr/>
        </p:nvSpPr>
        <p:spPr>
          <a:xfrm>
            <a:off x="2376360" y="846000"/>
            <a:ext cx="676764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CO, CO</a:t>
            </a:r>
            <a:r>
              <a:rPr b="1" lang="en-US" sz="3600" spc="-1" strike="noStrike" baseline="-25000">
                <a:solidFill>
                  <a:srgbClr val="0697ab"/>
                </a:solidFill>
                <a:latin typeface="Tahoma"/>
                <a:ea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ýfukové plyny, nedokonalé spalování (karma, kamna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říznaky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olesti hlavy, zvracení, zmatenost, křeče … až bezvědo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První pomo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technická – vytáhnout postiženého z místnost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volání ZZ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bezvědomí – nedýchá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zahájení KPR  GL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Ot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římá spojovací čára 4"/>
          <p:cNvSpPr/>
          <p:nvPr/>
        </p:nvSpPr>
        <p:spPr>
          <a:xfrm>
            <a:off x="2376360" y="846000"/>
            <a:ext cx="6767640" cy="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ka</cp:lastModifiedBy>
  <dcterms:modified xsi:type="dcterms:W3CDTF">2009-03-18T10:38:20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