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400800" cy="8686800"/>
</p:presentation>
</file>

<file path=ppt/commentAuthors.xml><?xml version="1.0" encoding="utf-8"?>
<p:cmAuthorLst xmlns:p="http://schemas.openxmlformats.org/presentationml/2006/main">
  <p:cmAuthor id="0" name="Katka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9-03-18T11:21:56.828000000" idx="1">
    <p:pos x="10" y="10"/>
    <p:text>Nahradit tůra za túra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D9B-9F8E-4078-ABFC-9CFEE6A9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F44-FE64-431E-8D5A-D44B9EEB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E19-D6E6-4885-9DAF-791E9EA7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FA4-2EB7-4940-B5DE-65AA3CDF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8DB-C63A-4565-ABD7-A94158B9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AF3-EFFF-458F-AB81-810AA9AB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D31-B26F-45BA-B7E4-AD265AAA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18B-A5D5-45F2-A9E1-4DDE7F29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C72-6BC3-4137-B09D-81DC1AEE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55A-9250-4668-B520-639A0726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CEC-9ACD-43C4-B3D8-B4B9F7E6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6FA-BA9E-4A0F-AC4F-E2F926CB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DF43-E020-4C92-84C2-6AA3DB5F1F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Elipsa 11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13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7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římá spojovací čára 6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Nadpis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lepnutím lze uprav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erun.cz/" TargetMode="External"/><Relationship Id="rId2" Type="http://schemas.openxmlformats.org/officeDocument/2006/relationships/hyperlink" Target="http://images.google.com/imgres?imgurl=http://www.perun.cz/image.php%3Fidx%3D416%26mw%3D200%26mh%3D157&amp;imgrefurl=http://www.perun.cz/cestovani/omrzliny.html&amp;h=157&amp;w=200&amp;sz=29&amp;hl=cs&amp;start=3&amp;tbnid=5WObMLw7rC9vRM:&amp;tbnh=82&amp;tbnw=104&amp;prev=/images%3Fq%3Domrzliny%26ndsp%3D18%26hl%3Dcs%26sa%3DN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poškození chlad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543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Celkové podchlazení 2. a 3.f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sejmout0041"/>
          <p:cNvPicPr/>
          <p:nvPr/>
        </p:nvPicPr>
        <p:blipFill>
          <a:blip r:embed="rId1"/>
          <a:srcRect l="5528" t="1561" r="10171" b="1561"/>
          <a:stretch/>
        </p:blipFill>
        <p:spPr>
          <a:xfrm>
            <a:off x="4202280" y="1714680"/>
            <a:ext cx="4727520" cy="44290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53" name="Text Box 9"/>
          <p:cNvSpPr/>
          <p:nvPr/>
        </p:nvSpPr>
        <p:spPr>
          <a:xfrm>
            <a:off x="1460520" y="585792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r>
              <a:rPr b="1" lang="cs-CZ" sz="1600" spc="-1" strike="noStrike">
                <a:solidFill>
                  <a:srgbClr val="000000"/>
                </a:solidFill>
                <a:latin typeface="Tahoma"/>
                <a:ea typeface="Tahoma"/>
              </a:rPr>
              <a:t>Keggenhoff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ovéPole 8"/>
          <p:cNvSpPr/>
          <p:nvPr/>
        </p:nvSpPr>
        <p:spPr>
          <a:xfrm>
            <a:off x="214200" y="2571840"/>
            <a:ext cx="39290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obrázek</a:t>
            </a:r>
            <a:r>
              <a:rPr b="0" lang="cs-CZ" sz="24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ahoma"/>
                <a:ea typeface="Tahoma"/>
              </a:rPr>
              <a:t>Obranný mechan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14c8c"/>
                </a:solidFill>
                <a:latin typeface="Tahoma"/>
                <a:ea typeface="Tahoma"/>
              </a:rPr>
              <a:t>snaha udržet max. teplotu </a:t>
            </a:r>
            <a:r>
              <a:rPr b="1" lang="cs-CZ" sz="2400" spc="-1" strike="noStrike">
                <a:solidFill>
                  <a:srgbClr val="014c8c"/>
                </a:solidFill>
                <a:latin typeface="Tahoma"/>
                <a:ea typeface="Tahoma"/>
              </a:rPr>
              <a:t>tělesného já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876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v první fázi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- podle stavu vědomí podat teplý nápoj, čokoládu, zajistit náhradní oděv, pečovat o tepelný komfort a  psychickou podpo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Upraví – li se zdravotní stav, je možné pokračovat v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v druhé fázi a dále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- nastupuje-li nepřiměřené,   apatické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chování, s pacientem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nehýbeme!</a:t>
            </a:r>
            <a:r>
              <a:rPr b="0" i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volání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ZZS 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sledování základních životních fun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pacienta šetrně izolovat od země + přikrýt nebo zahřát tělesným teplem zachrá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57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Celkové podchla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14c8c"/>
                </a:solidFill>
                <a:latin typeface="Tahoma"/>
                <a:ea typeface="Tahoma"/>
              </a:rPr>
              <a:t>Lokální</a:t>
            </a:r>
            <a:r>
              <a:rPr b="0" lang="cs-CZ" sz="4000" spc="-1" strike="noStrike">
                <a:solidFill>
                  <a:srgbClr val="014c8c"/>
                </a:solidFill>
                <a:latin typeface="Tahoma"/>
                <a:ea typeface="Tahoma"/>
              </a:rPr>
              <a:t> – </a:t>
            </a:r>
            <a:r>
              <a:rPr b="0" lang="cs-CZ" sz="4000" spc="-1" strike="noStrike">
                <a:solidFill>
                  <a:srgbClr val="ff0000"/>
                </a:solidFill>
                <a:latin typeface="Tahoma"/>
                <a:ea typeface="Tahoma"/>
              </a:rPr>
              <a:t>omrzli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14c8c"/>
                </a:solidFill>
                <a:latin typeface="Tahoma"/>
                <a:ea typeface="Tahoma"/>
              </a:rPr>
              <a:t>Celkové </a:t>
            </a:r>
            <a:r>
              <a:rPr b="0" lang="cs-CZ" sz="4000" spc="-1" strike="noStrike">
                <a:solidFill>
                  <a:srgbClr val="014c8c"/>
                </a:solidFill>
                <a:latin typeface="Tahoma"/>
                <a:ea typeface="Tahoma"/>
              </a:rPr>
              <a:t>– </a:t>
            </a:r>
            <a:r>
              <a:rPr b="0" lang="cs-CZ" sz="4000" spc="-1" strike="noStrike">
                <a:solidFill>
                  <a:srgbClr val="ff0000"/>
                </a:solidFill>
                <a:latin typeface="Tahoma"/>
                <a:ea typeface="Tahoma"/>
              </a:rPr>
              <a:t>podchlaz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oško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vznikají působením velmi chladného okolí na nechráněnou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část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 těla (nejčastěji prsty, nos, brada, uši) nebo dotekem velmi studeného předmě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tekutý dusík, led přímo na kůž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syntetický 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Lokální omrzl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j0240719"/>
          <p:cNvPicPr/>
          <p:nvPr/>
        </p:nvPicPr>
        <p:blipFill>
          <a:blip r:embed="rId1"/>
          <a:srcRect l="10393" t="0" r="0" b="0"/>
          <a:stretch/>
        </p:blipFill>
        <p:spPr>
          <a:xfrm flipH="1">
            <a:off x="6683040" y="3071880"/>
            <a:ext cx="2460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postižené tkáně nejprve </a:t>
            </a:r>
            <a:r>
              <a:rPr b="0" lang="cs-CZ" sz="3200" spc="-1" strike="noStrike">
                <a:solidFill>
                  <a:srgbClr val="ff0000"/>
                </a:solidFill>
                <a:latin typeface="Tahoma"/>
                <a:ea typeface="Tahoma"/>
              </a:rPr>
              <a:t>bledé, voskově bílé,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postupně se mohou rozvinout </a:t>
            </a:r>
            <a:r>
              <a:rPr b="0" lang="cs-CZ" sz="3200" spc="-1" strike="noStrike">
                <a:solidFill>
                  <a:srgbClr val="ff0000"/>
                </a:solidFill>
                <a:latin typeface="Tahoma"/>
                <a:ea typeface="Tahoma"/>
              </a:rPr>
              <a:t>modré skvrny, zčernání,</a:t>
            </a:r>
            <a:r>
              <a:rPr b="0" lang="cs-CZ" sz="32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mohou být </a:t>
            </a:r>
            <a:r>
              <a:rPr b="0" lang="cs-CZ" sz="3200" spc="-1" strike="noStrike">
                <a:solidFill>
                  <a:srgbClr val="ff0000"/>
                </a:solidFill>
                <a:latin typeface="Tahoma"/>
                <a:ea typeface="Tahoma"/>
              </a:rPr>
              <a:t>puchý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ahoma"/>
                <a:ea typeface="Tahoma"/>
              </a:rPr>
              <a:t>nejprve pálení</a:t>
            </a:r>
            <a:r>
              <a:rPr b="0" lang="cs-CZ" sz="32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a bodavá bolest, </a:t>
            </a:r>
            <a:r>
              <a:rPr b="0" lang="cs-CZ" sz="3200" spc="-1" strike="noStrike">
                <a:solidFill>
                  <a:srgbClr val="ff0000"/>
                </a:solidFill>
                <a:latin typeface="Tahoma"/>
                <a:ea typeface="Tahoma"/>
              </a:rPr>
              <a:t>poté ztráta citlivosti,</a:t>
            </a:r>
            <a:r>
              <a:rPr b="0" lang="cs-CZ" sz="32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bílá necitlivá k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29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Lokální omrzl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Obdélník 6"/>
          <p:cNvSpPr/>
          <p:nvPr/>
        </p:nvSpPr>
        <p:spPr>
          <a:xfrm>
            <a:off x="357120" y="4000680"/>
            <a:ext cx="8572680" cy="1714320"/>
          </a:xfrm>
          <a:prstGeom prst="rect">
            <a:avLst/>
          </a:prstGeom>
          <a:solidFill>
            <a:srgbClr val="014c8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6320"/>
            <a:ext cx="8381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PRVNÍ POMOC – v terénu</a:t>
            </a:r>
            <a:r>
              <a:rPr b="1" lang="cs-CZ" sz="20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ahoma"/>
                <a:ea typeface="Tahoma"/>
              </a:rPr>
              <a:t>nahradit odě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ahoma"/>
                <a:ea typeface="Tahoma"/>
              </a:rPr>
              <a:t>teplý náp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ahoma"/>
                <a:ea typeface="Tahoma"/>
              </a:rPr>
              <a:t>zahřívat tělesným teplem  (netří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Návrat citlivosti do 1O m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ahoma"/>
                <a:ea typeface="Tahoma"/>
              </a:rPr>
              <a:t>ANO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okračovat v tůře</a:t>
            </a:r>
            <a:r>
              <a:rPr b="1" lang="cs-CZ" sz="2400" spc="-1" strike="noStrike">
                <a:solidFill>
                  <a:srgbClr val="ff3300"/>
                </a:solidFill>
                <a:latin typeface="Tahoma"/>
                <a:ea typeface="Tahoma"/>
              </a:rPr>
              <a:t>	</a:t>
            </a:r>
            <a:r>
              <a:rPr b="1" lang="cs-CZ" sz="2400" spc="-1" strike="noStrike">
                <a:solidFill>
                  <a:srgbClr val="ff3300"/>
                </a:solidFill>
                <a:latin typeface="Tahoma"/>
                <a:ea typeface="Tahoma"/>
              </a:rPr>
              <a:t>NE</a:t>
            </a:r>
            <a:r>
              <a:rPr b="1" lang="cs-CZ" sz="24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jdi do nejbližšího úkry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Lokální omrzl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6840" y="1606320"/>
            <a:ext cx="8381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PRVNÍ POMOC – v místnosti</a:t>
            </a:r>
            <a:r>
              <a:rPr b="1" lang="cs-CZ" sz="20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sundat prsten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ostižené části obnažit, pokud to l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ohřívat – lázeň 40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°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C + Betadine  nebo Jod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dostatek teku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dle rozsahu volat ZZS 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Verdana"/>
                <a:ea typeface="Tahoma"/>
              </a:rPr>
              <a:t>sledování základních životních funkc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14c8c"/>
                </a:solidFill>
                <a:latin typeface="Tahoma"/>
                <a:ea typeface="Tahoma"/>
              </a:rPr>
              <a:t>www.horosvaz.cz </a:t>
            </a:r>
            <a:r>
              <a:rPr b="0" lang="cs-CZ" sz="2400" spc="-1" strike="noStrike">
                <a:solidFill>
                  <a:srgbClr val="014c8c"/>
                </a:solidFill>
                <a:latin typeface="Tahoma"/>
                <a:ea typeface="Tahoma"/>
              </a:rPr>
              <a:t>– doporučujem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7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Lokální omrzl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214880" y="5714640"/>
            <a:ext cx="3214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14c8c"/>
                </a:solidFill>
                <a:uFillTx/>
                <a:latin typeface="Tahoma"/>
                <a:ea typeface="Tahoma"/>
                <a:hlinkClick r:id="rId1"/>
              </a:rPr>
              <a:t>www.perun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543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Omrzl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Skupina 8"/>
          <p:cNvGrpSpPr/>
          <p:nvPr/>
        </p:nvGrpSpPr>
        <p:grpSpPr>
          <a:xfrm>
            <a:off x="1806480" y="1928880"/>
            <a:ext cx="5531040" cy="4189320"/>
            <a:chOff x="1806480" y="1928880"/>
            <a:chExt cx="5531040" cy="4189320"/>
          </a:xfrm>
        </p:grpSpPr>
        <p:pic>
          <p:nvPicPr>
            <p:cNvPr id="344" name="Picture 5" descr="image">
              <a:hlinkClick r:id="rId2"/>
            </p:cNvPr>
            <p:cNvPicPr/>
            <p:nvPr/>
          </p:nvPicPr>
          <p:blipFill>
            <a:blip r:embed="rId3"/>
            <a:srcRect l="0" t="0" r="7885" b="0"/>
            <a:stretch/>
          </p:blipFill>
          <p:spPr>
            <a:xfrm>
              <a:off x="1806480" y="3923640"/>
              <a:ext cx="2561760" cy="2194560"/>
            </a:xfrm>
            <a:prstGeom prst="rect">
              <a:avLst/>
            </a:prstGeom>
            <a:ln w="63360">
              <a:solidFill>
                <a:srgbClr val="d9e4ee"/>
              </a:solidFill>
              <a:miter/>
            </a:ln>
          </p:spPr>
        </p:pic>
        <p:pic>
          <p:nvPicPr>
            <p:cNvPr id="345" name="Picture 8" descr="image"/>
            <p:cNvPicPr/>
            <p:nvPr/>
          </p:nvPicPr>
          <p:blipFill>
            <a:blip r:embed="rId4"/>
            <a:stretch/>
          </p:blipFill>
          <p:spPr>
            <a:xfrm>
              <a:off x="4432320" y="1928880"/>
              <a:ext cx="2905200" cy="1929600"/>
            </a:xfrm>
            <a:prstGeom prst="rect">
              <a:avLst/>
            </a:prstGeom>
            <a:ln w="63360">
              <a:solidFill>
                <a:srgbClr val="d9e4ee"/>
              </a:solidFill>
              <a:miter/>
            </a:ln>
          </p:spPr>
        </p:pic>
        <p:pic>
          <p:nvPicPr>
            <p:cNvPr id="346" name="Picture 14" descr="erfrie"/>
            <p:cNvPicPr/>
            <p:nvPr/>
          </p:nvPicPr>
          <p:blipFill>
            <a:blip r:embed="rId5"/>
            <a:stretch/>
          </p:blipFill>
          <p:spPr>
            <a:xfrm>
              <a:off x="1806480" y="1929600"/>
              <a:ext cx="2560680" cy="1928520"/>
            </a:xfrm>
            <a:prstGeom prst="rect">
              <a:avLst/>
            </a:prstGeom>
            <a:ln w="63360">
              <a:solidFill>
                <a:srgbClr val="d9e4ee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57120" y="1571400"/>
            <a:ext cx="8329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14c8c"/>
                </a:solidFill>
                <a:latin typeface="Verdana"/>
                <a:ea typeface="Tahoma"/>
              </a:rPr>
              <a:t>postupný pokles teploty tělesného jádra pod 35 </a:t>
            </a:r>
            <a:r>
              <a:rPr b="0" i="1" lang="cs-CZ" sz="2400" spc="-1" strike="noStrike">
                <a:solidFill>
                  <a:srgbClr val="014c8c"/>
                </a:solidFill>
                <a:latin typeface="Tahoma"/>
                <a:ea typeface="Tahoma"/>
              </a:rPr>
              <a:t>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ahoma"/>
              </a:rPr>
              <a:t>vzniká působením velmi chladného okol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ahoma"/>
              </a:rPr>
              <a:t>na organismus; </a:t>
            </a:r>
            <a:r>
              <a:rPr b="0" i="1" lang="cs-CZ" sz="2600" spc="-1" strike="noStrike">
                <a:solidFill>
                  <a:srgbClr val="ff3300"/>
                </a:solidFill>
                <a:latin typeface="Tahoma"/>
                <a:ea typeface="Tahoma"/>
              </a:rPr>
              <a:t>vítr účinek násobí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ahoma"/>
              </a:rPr>
              <a:t>postupný pokles tělesné teploty vede ke zpomalení životních funkci až smr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ahoma"/>
              </a:rPr>
              <a:t>častá příčina vzniku: </a:t>
            </a:r>
            <a:r>
              <a:rPr b="0" i="1" lang="cs-CZ" sz="2600" spc="-1" strike="noStrike">
                <a:solidFill>
                  <a:srgbClr val="ff3300"/>
                </a:solidFill>
                <a:latin typeface="Tahoma"/>
                <a:ea typeface="Tahoma"/>
              </a:rPr>
              <a:t>úraz a následné podchlazení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V zimním období – bezdomovci (nejvíce ohrožená skupina lidí), horolezci, oso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od vlivem alkoh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00"/>
                </a:solidFill>
                <a:latin typeface="Tahoma"/>
                <a:ea typeface="Tahoma"/>
              </a:rPr>
              <a:t>Tonoucí – v létě i zi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Celkové podchla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Fáz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nejprve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má postižený svalový třes, studená, bledá, suchá kůže. Postižený se choulí do klubíčk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poté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svalový třes končí, nastupuje nepřiměřené chování, pomalé, apatické …  bezvědo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konečná fáze: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zpomalení tepové a dechové frekvence… srdeční zá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Tahoma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Verdana"/>
                <a:ea typeface="Tahoma"/>
              </a:rPr>
              <a:t>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900" spc="-1" strike="noStrike">
                <a:solidFill>
                  <a:srgbClr val="ffffff"/>
                </a:solidFill>
                <a:latin typeface="Verdana"/>
                <a:ea typeface="Tahoma"/>
              </a:rPr>
              <a:t>                                                                                                                                           </a:t>
            </a:r>
            <a:r>
              <a:rPr b="0" i="1" lang="cs-CZ" sz="900" spc="-1" strike="noStrike">
                <a:solidFill>
                  <a:srgbClr val="ffffff"/>
                </a:solidFill>
                <a:latin typeface="Verdana"/>
                <a:ea typeface="Tahom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57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Celkové podchla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23:05:13Z</dcterms:created>
  <dc:creator>David</dc:creator>
  <dc:description/>
  <dc:language>en-US</dc:language>
  <cp:lastModifiedBy>Your User Name</cp:lastModifiedBy>
  <dcterms:modified xsi:type="dcterms:W3CDTF">2009-03-22T19:23:11Z</dcterms:modified>
  <cp:revision>194</cp:revision>
  <dc:subject/>
  <dc:title>Poranění</dc:title>
</cp:coreProperties>
</file>