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202-E851-4164-8AD6-0833260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64E-4EB1-479C-8309-7C925BC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A61-4429-46A3-ACA3-636FEADB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ACD-ABE9-43AA-82C2-FBCDE7E2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F77-9F2E-4F1B-A1C3-A7666E0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2FE-4B29-439C-8652-09DF9FE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1A4-0490-496F-AA10-86EBA80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67C-7194-4BF4-ABDE-A6DB0F1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1F6-C103-4261-852D-4CF18B5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EEF-EFA4-4D8E-A810-C92DFDC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32E-8CCD-44B2-B92B-3126B07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4F6-3CF6-4806-ABF0-1394C8B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349-25E9-4BFB-BFA6-9D9A64DCE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poranění páte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"/>
          <p:cNvPicPr/>
          <p:nvPr/>
        </p:nvPicPr>
        <p:blipFill>
          <a:blip r:embed="rId1"/>
          <a:srcRect l="3704" t="0" r="0" b="0"/>
          <a:stretch/>
        </p:blipFill>
        <p:spPr>
          <a:xfrm>
            <a:off x="4898880" y="4286160"/>
            <a:ext cx="3129120" cy="24242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14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Mechanizmus úra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2"/>
          <a:srcRect l="0" t="7032" r="0" b="0"/>
          <a:stretch/>
        </p:blipFill>
        <p:spPr>
          <a:xfrm>
            <a:off x="1071720" y="1357200"/>
            <a:ext cx="3744720" cy="2833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32" name="Picture 16" descr="Otevření nového dětského hřiště"/>
          <p:cNvPicPr/>
          <p:nvPr/>
        </p:nvPicPr>
        <p:blipFill>
          <a:blip r:embed="rId3"/>
          <a:stretch/>
        </p:blipFill>
        <p:spPr>
          <a:xfrm>
            <a:off x="1071720" y="4267080"/>
            <a:ext cx="3743280" cy="24480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33" name="Picture 6" descr="hlava_neni_prilba"/>
          <p:cNvPicPr/>
          <p:nvPr/>
        </p:nvPicPr>
        <p:blipFill>
          <a:blip r:embed="rId4"/>
          <a:stretch/>
        </p:blipFill>
        <p:spPr>
          <a:xfrm>
            <a:off x="4900680" y="1357200"/>
            <a:ext cx="3100320" cy="2833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4" name="Text Box 17"/>
          <p:cNvSpPr/>
          <p:nvPr/>
        </p:nvSpPr>
        <p:spPr>
          <a:xfrm>
            <a:off x="2500200" y="6407280"/>
            <a:ext cx="2291040" cy="30708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  <a:ea typeface="Tahoma"/>
              </a:rPr>
              <a:t>www.obec-chrastice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08_05_23 199"/>
          <p:cNvPicPr/>
          <p:nvPr/>
        </p:nvPicPr>
        <p:blipFill>
          <a:blip r:embed="rId1"/>
          <a:stretch/>
        </p:blipFill>
        <p:spPr>
          <a:xfrm>
            <a:off x="3801960" y="1428840"/>
            <a:ext cx="3841920" cy="2428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5114880" cy="10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Mechanizmus úra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lezeni"/>
          <p:cNvPicPr/>
          <p:nvPr/>
        </p:nvPicPr>
        <p:blipFill>
          <a:blip r:embed="rId2"/>
          <a:stretch/>
        </p:blipFill>
        <p:spPr>
          <a:xfrm>
            <a:off x="1566720" y="1422360"/>
            <a:ext cx="2148120" cy="24354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38" name="Picture 4" descr=""/>
          <p:cNvPicPr/>
          <p:nvPr/>
        </p:nvPicPr>
        <p:blipFill>
          <a:blip r:embed="rId3"/>
          <a:srcRect l="0" t="7787" r="0" b="16341"/>
          <a:stretch/>
        </p:blipFill>
        <p:spPr>
          <a:xfrm>
            <a:off x="4946760" y="3929040"/>
            <a:ext cx="2697120" cy="27860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39" name="Picture 6" descr=""/>
          <p:cNvPicPr/>
          <p:nvPr/>
        </p:nvPicPr>
        <p:blipFill>
          <a:blip r:embed="rId4"/>
          <a:stretch/>
        </p:blipFill>
        <p:spPr>
          <a:xfrm>
            <a:off x="1571760" y="3929040"/>
            <a:ext cx="3286080" cy="27860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0" name="Text Box 7"/>
          <p:cNvSpPr/>
          <p:nvPr/>
        </p:nvSpPr>
        <p:spPr>
          <a:xfrm>
            <a:off x="3791160" y="642924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foto MA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5608800" y="3500280"/>
            <a:ext cx="2035080" cy="33732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ahoma"/>
              </a:rPr>
              <a:t>www.zzsjmk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282420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skenovat0008"/>
          <p:cNvPicPr/>
          <p:nvPr/>
        </p:nvPicPr>
        <p:blipFill>
          <a:blip r:embed="rId1"/>
          <a:stretch/>
        </p:blipFill>
        <p:spPr>
          <a:xfrm>
            <a:off x="71280" y="2786040"/>
            <a:ext cx="5214960" cy="3500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42884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autoneh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43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Mechanizmus úra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C:\Documents and Settings\Kubíková\Plocha\foto-KPCR\zdenka grant\08_05_23 452.jpg"/>
          <p:cNvPicPr/>
          <p:nvPr/>
        </p:nvPicPr>
        <p:blipFill>
          <a:blip r:embed="rId2"/>
          <a:stretch/>
        </p:blipFill>
        <p:spPr>
          <a:xfrm>
            <a:off x="5357880" y="1643040"/>
            <a:ext cx="3600360" cy="27003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7" name="TextovéPole 7"/>
          <p:cNvSpPr/>
          <p:nvPr/>
        </p:nvSpPr>
        <p:spPr>
          <a:xfrm>
            <a:off x="2329560" y="61437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Hasík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ovéPole 8"/>
          <p:cNvSpPr/>
          <p:nvPr/>
        </p:nvSpPr>
        <p:spPr>
          <a:xfrm>
            <a:off x="7006320" y="44290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www.zzsjm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2286000" y="1781280"/>
            <a:ext cx="523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422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2080"/>
                <a:tab algn="l" pos="269712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  <a:tab algn="l" pos="4467240"/>
                <a:tab algn="l" pos="4680000"/>
                <a:tab algn="l" pos="4892760"/>
                <a:tab algn="l" pos="5105520"/>
                <a:tab algn="l" pos="5318280"/>
                <a:tab algn="l" pos="5530680"/>
                <a:tab algn="l" pos="5743440"/>
                <a:tab algn="l" pos="5956200"/>
                <a:tab algn="l" pos="6168960"/>
                <a:tab algn="l" pos="6381720"/>
                <a:tab algn="l" pos="6594480"/>
                <a:tab algn="l" pos="680724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  <a:ea typeface="Tahoma"/>
              </a:rPr>
              <a:t>PŘI PODEZŘENÍ NA PORANĚNÍ PÁTEŘ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2080"/>
                <a:tab algn="l" pos="269712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  <a:tab algn="l" pos="4467240"/>
                <a:tab algn="l" pos="4680000"/>
                <a:tab algn="l" pos="4892760"/>
                <a:tab algn="l" pos="5105520"/>
                <a:tab algn="l" pos="5318280"/>
                <a:tab algn="l" pos="5530680"/>
                <a:tab algn="l" pos="5743440"/>
                <a:tab algn="l" pos="5956200"/>
                <a:tab algn="l" pos="6168960"/>
                <a:tab algn="l" pos="6381720"/>
                <a:tab algn="l" pos="6594480"/>
                <a:tab algn="l" pos="6807240"/>
              </a:tabLst>
            </a:pPr>
            <a:r>
              <a:rPr b="0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jed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2080"/>
                <a:tab algn="l" pos="269712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  <a:tab algn="l" pos="4467240"/>
                <a:tab algn="l" pos="4680000"/>
                <a:tab algn="l" pos="4892760"/>
                <a:tab algn="l" pos="5105520"/>
                <a:tab algn="l" pos="5318280"/>
                <a:tab algn="l" pos="5530680"/>
                <a:tab algn="l" pos="5743440"/>
                <a:tab algn="l" pos="5956200"/>
                <a:tab algn="l" pos="6168960"/>
                <a:tab algn="l" pos="6381720"/>
                <a:tab algn="l" pos="6594480"/>
                <a:tab algn="l" pos="680724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  <a:ea typeface="Tahoma"/>
              </a:rPr>
              <a:t>JAKO BY PÁTEŘ PORANĚNÁ BY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432080"/>
                <a:tab algn="l" pos="269712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  <a:tab algn="l" pos="4467240"/>
                <a:tab algn="l" pos="4680000"/>
                <a:tab algn="l" pos="4892760"/>
                <a:tab algn="l" pos="5105520"/>
                <a:tab algn="l" pos="5318280"/>
                <a:tab algn="l" pos="5530680"/>
                <a:tab algn="l" pos="5743440"/>
                <a:tab algn="l" pos="5956200"/>
                <a:tab algn="l" pos="6168960"/>
                <a:tab algn="l" pos="6381720"/>
                <a:tab algn="l" pos="6594480"/>
                <a:tab algn="l" pos="6807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28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amatu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286000" y="1781280"/>
            <a:ext cx="523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422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24000" y="549360"/>
            <a:ext cx="15957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1.  bezpečnost na místě neh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2. 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zjištění stavu vědomí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oslovení, bolestivý podně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acient při vědom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 postiženým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manipulujem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, ponecháme v původní                 pol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řivoláme ZZS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ajistíme tepelný komfort a psychickou podp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ledování základních životních funkcí do předání ZZS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Rejvíz 1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525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ždy zajistit odborný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5618880" y="621504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www.zzsjm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7" descr="Scan0015"/>
          <p:cNvPicPr/>
          <p:nvPr/>
        </p:nvPicPr>
        <p:blipFill>
          <a:blip r:embed="rId1"/>
          <a:stretch/>
        </p:blipFill>
        <p:spPr>
          <a:xfrm>
            <a:off x="4925880" y="3786120"/>
            <a:ext cx="4075200" cy="29289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2" name="TextovéPole 7"/>
          <p:cNvSpPr/>
          <p:nvPr/>
        </p:nvSpPr>
        <p:spPr>
          <a:xfrm>
            <a:off x="2786040" y="64072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asík,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acient v bezvědom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variant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volnění dýchacích c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dýchá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kontrola základních životních funkcí do příjezdu ZZS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varian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volnění dýchacích c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dýchá</a:t>
            </a:r>
            <a:r>
              <a:rPr b="1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zahájení K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15884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2" descr="paraplegie"/>
          <p:cNvPicPr/>
          <p:nvPr/>
        </p:nvPicPr>
        <p:blipFill>
          <a:blip r:embed="rId1"/>
          <a:stretch/>
        </p:blipFill>
        <p:spPr>
          <a:xfrm>
            <a:off x="1065240" y="1600200"/>
            <a:ext cx="2827440" cy="4525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757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Typy poškození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quadruplegie"/>
          <p:cNvPicPr/>
          <p:nvPr/>
        </p:nvPicPr>
        <p:blipFill>
          <a:blip r:embed="rId2"/>
          <a:stretch/>
        </p:blipFill>
        <p:spPr>
          <a:xfrm>
            <a:off x="5143680" y="1600200"/>
            <a:ext cx="2842920" cy="4549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7"/>
          <p:cNvSpPr/>
          <p:nvPr/>
        </p:nvSpPr>
        <p:spPr>
          <a:xfrm>
            <a:off x="1714680" y="6143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ahoma"/>
                <a:ea typeface="Tahoma"/>
              </a:rPr>
              <a:t>PARAPL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519880" y="61437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ahoma"/>
                <a:ea typeface="Tahoma"/>
              </a:rPr>
              <a:t>QUADRUPL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79280" y="213372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3156480" y="655308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upraveno dle Williamsová, 1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1:09:24Z</dcterms:created>
  <dc:creator>PC88</dc:creator>
  <dc:description/>
  <dc:language>en-US</dc:language>
  <cp:lastModifiedBy>Katka</cp:lastModifiedBy>
  <dcterms:modified xsi:type="dcterms:W3CDTF">2009-03-18T12:09:44Z</dcterms:modified>
  <cp:revision>129</cp:revision>
  <dc:subject/>
  <dc:title>První pomoc</dc:title>
</cp:coreProperties>
</file>