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400800" cy="8686800"/>
</p:presentation>
</file>

<file path=ppt/commentAuthors.xml><?xml version="1.0" encoding="utf-8"?>
<p:cmAuthorLst xmlns:p="http://schemas.openxmlformats.org/presentationml/2006/main">
  <p:cmAuthor id="0" name="Katk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03-17T12:39:09.281000000" idx="1">
    <p:pos x="10" y="10"/>
    <p:text>Navrhuji "nebo v krajní situaci" umístit celé na nový řádek pro lepší srozumitelnost, neboť jinak člověk předpokládá, že věta bude pokračovat ještě v rámci bodu jedna.
Vynechání řádku mezi 4. a 5. řádkem je úmyslné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62D-AC4F-40C3-B85B-4753EB7F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FC9-32FE-4D2E-9C32-A4B202FC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030-21CA-46CF-8E86-CBCCC0CD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598-1F5D-4BC7-9783-BD526F52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611-216B-45E0-A092-ED622FDB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D24-72C6-42F2-B91E-4EE13E3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26C-6484-4F45-9C05-E8F7B98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F44-3AD5-46DD-86E2-FC82EF2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975-F82A-423E-8FBC-FB155E7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567-B846-4454-8489-A574D6B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DF5-7F84-4984-A058-455A66F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B4C-074A-431B-A34F-6C5A3A6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A804-9065-4165-A846-BEE1B8EC3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krvácení – vnějš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Tlakový obvaz </a:t>
            </a:r>
            <a:r>
              <a:rPr b="0" i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nebo v krajní situ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Stlačit krvácející cévu prsty přímo v r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Elevace konče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oložení postiženého na zá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oslední možnost – zaškrc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Vlastní 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- použití chirurgických rukavic!</a:t>
            </a:r>
            <a:r>
              <a:rPr b="1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Vnější krvác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sejmout0015"/>
          <p:cNvPicPr/>
          <p:nvPr/>
        </p:nvPicPr>
        <p:blipFill>
          <a:blip r:embed="rId1"/>
          <a:stretch/>
        </p:blipFill>
        <p:spPr>
          <a:xfrm>
            <a:off x="5867280" y="2421000"/>
            <a:ext cx="3124440" cy="35226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71" name="Text Box 11"/>
          <p:cNvSpPr/>
          <p:nvPr/>
        </p:nvSpPr>
        <p:spPr>
          <a:xfrm>
            <a:off x="7547040" y="6019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ge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2" descr="sejmout0027"/>
          <p:cNvPicPr/>
          <p:nvPr/>
        </p:nvPicPr>
        <p:blipFill>
          <a:blip r:embed="rId1"/>
          <a:stretch/>
        </p:blipFill>
        <p:spPr>
          <a:xfrm>
            <a:off x="990720" y="1325520"/>
            <a:ext cx="6781680" cy="50752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6"/>
          <p:cNvSpPr/>
          <p:nvPr/>
        </p:nvSpPr>
        <p:spPr>
          <a:xfrm>
            <a:off x="762120" y="3108240"/>
            <a:ext cx="611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6292440" y="6324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ČČK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Tlakový obv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Skupina 8"/>
          <p:cNvGrpSpPr/>
          <p:nvPr/>
        </p:nvGrpSpPr>
        <p:grpSpPr>
          <a:xfrm>
            <a:off x="5940360" y="1219320"/>
            <a:ext cx="3051360" cy="5486400"/>
            <a:chOff x="5940360" y="1219320"/>
            <a:chExt cx="3051360" cy="5486400"/>
          </a:xfrm>
        </p:grpSpPr>
        <p:pic>
          <p:nvPicPr>
            <p:cNvPr id="377" name="Picture 4" descr="obehova-soustava"/>
            <p:cNvPicPr/>
            <p:nvPr/>
          </p:nvPicPr>
          <p:blipFill>
            <a:blip r:embed="rId1"/>
            <a:srcRect l="0" t="2693" r="0" b="0"/>
            <a:stretch/>
          </p:blipFill>
          <p:spPr>
            <a:xfrm>
              <a:off x="5940360" y="1219320"/>
              <a:ext cx="30513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Oval 5"/>
            <p:cNvSpPr/>
            <p:nvPr/>
          </p:nvSpPr>
          <p:spPr>
            <a:xfrm flipH="1">
              <a:off x="6951600" y="2061720"/>
              <a:ext cx="457920" cy="414360"/>
            </a:xfrm>
            <a:prstGeom prst="ellipse">
              <a:avLst/>
            </a:prstGeom>
            <a:solidFill>
              <a:srgbClr val="ff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 flipH="1" flipV="1">
              <a:off x="7318080" y="4218120"/>
              <a:ext cx="457920" cy="49752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 txBox="1"/>
          <p:nvPr/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Pouze výjimečně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 vysokých amputac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Nedaří-li se zastavit krvácení třetí vrstvou tlakového obvazu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ři nutnosti zahájení KPR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 pacient masivně krvá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Tahoma"/>
                <a:ea typeface="Tahoma"/>
              </a:rPr>
              <a:t>Zása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Vždy zapiš č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oužij zaškrcovadlo alespoň 5 cm široké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Nikdy ne drát nebo tkaničku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Místa pro zaškrcení končetiny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viz obráz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oužití zaškrcova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600200"/>
            <a:ext cx="5638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První pomo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očistit čistou vodou, mýdlo, kart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desinfek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ahoma"/>
                <a:ea typeface="Tahoma"/>
              </a:rPr>
              <a:t>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Ošetření povrchových poranění - odř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sejmout0033"/>
          <p:cNvPicPr/>
          <p:nvPr/>
        </p:nvPicPr>
        <p:blipFill>
          <a:blip r:embed="rId1"/>
          <a:stretch/>
        </p:blipFill>
        <p:spPr>
          <a:xfrm>
            <a:off x="6095880" y="1523880"/>
            <a:ext cx="2691000" cy="26672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85" name="Text Box 12"/>
          <p:cNvSpPr/>
          <p:nvPr/>
        </p:nvSpPr>
        <p:spPr>
          <a:xfrm>
            <a:off x="6400800" y="4191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Kelnarová, 2007. 1.dí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457200" y="45720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ozor na preparáty obsahující jód – z důvodu možné alergické reakc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sterilní krytí r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ahoma"/>
                <a:ea typeface="Tahoma"/>
              </a:rPr>
              <a:t>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09480" y="161784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neodstraňovat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těleso v ráně působí jako zátka, zabraňuje větší ztrátě k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sterilně oblož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uklidň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případně zafixovat proti posu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Volání záchranné služby 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9" descr="08_05-31 126"/>
          <p:cNvPicPr/>
          <p:nvPr/>
        </p:nvPicPr>
        <p:blipFill>
          <a:blip r:embed="rId1"/>
          <a:stretch/>
        </p:blipFill>
        <p:spPr>
          <a:xfrm>
            <a:off x="5791320" y="1905120"/>
            <a:ext cx="3047760" cy="40654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Cizí těleso v rá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804000" y="6019920"/>
            <a:ext cx="188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FOTO: Turin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560" y="1371240"/>
            <a:ext cx="6019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 nosu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ředklo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máčknout nosní kříd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 úst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předkloni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ři vyraženém zubu zkousnout tamp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 ucha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netampono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krev nechat  volně vyték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rvácení z tělního otv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sejmout0034"/>
          <p:cNvPicPr/>
          <p:nvPr/>
        </p:nvPicPr>
        <p:blipFill>
          <a:blip r:embed="rId1"/>
          <a:stretch/>
        </p:blipFill>
        <p:spPr>
          <a:xfrm>
            <a:off x="6324480" y="5097600"/>
            <a:ext cx="2438640" cy="16081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94" name="Picture 7" descr="sejmout0035"/>
          <p:cNvPicPr/>
          <p:nvPr/>
        </p:nvPicPr>
        <p:blipFill>
          <a:blip r:embed="rId2"/>
          <a:stretch/>
        </p:blipFill>
        <p:spPr>
          <a:xfrm>
            <a:off x="6326280" y="3154320"/>
            <a:ext cx="2436840" cy="18622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95" name="Picture 9" descr="sejmout0030"/>
          <p:cNvPicPr/>
          <p:nvPr/>
        </p:nvPicPr>
        <p:blipFill>
          <a:blip r:embed="rId3"/>
          <a:stretch/>
        </p:blipFill>
        <p:spPr>
          <a:xfrm>
            <a:off x="6326280" y="1351080"/>
            <a:ext cx="2436840" cy="17269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96" name="TextovéPole 12"/>
          <p:cNvSpPr/>
          <p:nvPr/>
        </p:nvSpPr>
        <p:spPr>
          <a:xfrm>
            <a:off x="3733920" y="64436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3x Kelnarová, 2007. 1. dí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A070903_OT_MILAN_SABLIK_V"/>
          <p:cNvPicPr/>
          <p:nvPr/>
        </p:nvPicPr>
        <p:blipFill>
          <a:blip r:embed="rId1"/>
          <a:stretch/>
        </p:blipFill>
        <p:spPr>
          <a:xfrm>
            <a:off x="5473800" y="1639800"/>
            <a:ext cx="3441600" cy="4444920"/>
          </a:xfrm>
          <a:prstGeom prst="rect">
            <a:avLst/>
          </a:prstGeom>
          <a:ln w="63360">
            <a:solidFill>
              <a:srgbClr val="014c8c">
                <a:alpha val="20000"/>
              </a:srgbClr>
            </a:solidFill>
            <a:miter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… </a:t>
            </a: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i sport někdy b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Arial"/>
              </a:rPr>
              <a:t>Ošetři vnější krvácen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vždy sleduj i další přízna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Arial"/>
              </a:rPr>
              <a:t>vědomí zraněn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Arial"/>
              </a:rPr>
              <a:t>bo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Arial"/>
              </a:rPr>
              <a:t>barvu v oblič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601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697ab"/>
                </a:solidFill>
                <a:latin typeface="Arial"/>
              </a:rPr>
              <a:t>tep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še podrobně popiš posádce záchranné služ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74960" indent="0" algn="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FOTO: MAF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ovéPole 8"/>
          <p:cNvSpPr/>
          <p:nvPr/>
        </p:nvSpPr>
        <p:spPr>
          <a:xfrm>
            <a:off x="7086600" y="6172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ahoma"/>
              </a:rPr>
              <a:t>MAFA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9-03-22T19:14:32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