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400800" cy="8686800"/>
</p:presentation>
</file>

<file path=ppt/commentAuthors.xml><?xml version="1.0" encoding="utf-8"?>
<p:cmAuthorLst xmlns:p="http://schemas.openxmlformats.org/presentationml/2006/main">
  <p:cmAuthor id="0" name="Katka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9-03-17T12:35:21.031000000" idx="1">
    <p:pos x="19" y="10"/>
    <p:text>Navrhuji rozvést zkratku KPR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C84-FD11-4EA5-A4AD-9AB0033A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90E-660B-492F-B927-98FDF5E0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9E0-E8AF-4D8F-97B2-1DD299BB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A13-515C-47CF-97B3-E1BF6B34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E93-1F6B-40B0-97D8-9D40E683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FB0-077B-497F-B62A-02B727F8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37F-8F27-43D9-9989-5526647F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345-4B94-418D-9838-98980ED0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713-B0E5-4E08-B98B-5516FC5C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1B5-5E71-4D92-B460-AF8864DA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D6E-B37B-4320-AC18-400AE4E7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C3F-134D-4F0F-B14A-A933D3DF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144D-6D1D-4097-8169-FD0CEDF7D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0" y="641520"/>
            <a:ext cx="9144000" cy="288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Rautekova zotavovací polo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užívá s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 osoby v bezvědomí, která pravidelně a dostatečně dých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7ab"/>
                </a:solidFill>
                <a:latin typeface="Tahoma"/>
                <a:ea typeface="Tahoma"/>
              </a:rPr>
              <a:t>PAMATUJ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sobě v bezvědomí je potřeba neustále kontrolovat dýchání. Nedýchá – li nebo dýchá nedostatečně,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zahaj KP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7400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Rautekova zotavovací polo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4c8c"/>
                </a:solidFill>
                <a:latin typeface="Tahoma"/>
                <a:ea typeface="Tahoma"/>
              </a:rPr>
              <a:t>Dýchání je pravidelné a dostatečn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E:\prace\kubikova\cze\2b_Rautekova_zotavovacA_poloha_soubory\slide0010_image003.jpg"/>
          <p:cNvPicPr/>
          <p:nvPr/>
        </p:nvPicPr>
        <p:blipFill>
          <a:blip r:embed="rId1"/>
          <a:stretch/>
        </p:blipFill>
        <p:spPr>
          <a:xfrm>
            <a:off x="768240" y="1928880"/>
            <a:ext cx="7607520" cy="478620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32" name="Text Box 4"/>
          <p:cNvSpPr/>
          <p:nvPr/>
        </p:nvSpPr>
        <p:spPr>
          <a:xfrm>
            <a:off x="714240" y="114300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3600">
              <a:lnSpc>
                <a:spcPct val="100000"/>
              </a:lnSpc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97ab"/>
                </a:solidFill>
                <a:latin typeface="Tahoma"/>
                <a:ea typeface="Tahoma"/>
              </a:rPr>
              <a:t>Volání ZZS 1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E:\prace\kubikova\cze\2b_Rautekova_zotavovacA_poloha_soubory\slide00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E:\prace\kubikova\cze\2b_Rautekova_zotavovacA_poloha_soubory\slide0006_image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E:\prace\kubikova\cze\2b_Rautekova_zotavovacA_poloha_soubory\slide0008_image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" descr="E:\prace\kubikova\cze\2b_Rautekova_zotavovacA_poloha_soubory\slide0009_image007.jpg"/>
          <p:cNvPicPr/>
          <p:nvPr/>
        </p:nvPicPr>
        <p:blipFill>
          <a:blip r:embed="rId1"/>
          <a:stretch/>
        </p:blipFill>
        <p:spPr>
          <a:xfrm>
            <a:off x="-1440" y="2928960"/>
            <a:ext cx="9145440" cy="3929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189080"/>
            <a:ext cx="868680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ní-li to nezbytně nutné, pacienta neopouštíme do doby, než jej předáme záchranné službě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2543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amatuj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aoblený obdélník 7"/>
          <p:cNvSpPr/>
          <p:nvPr/>
        </p:nvSpPr>
        <p:spPr>
          <a:xfrm>
            <a:off x="142920" y="3143160"/>
            <a:ext cx="2714760" cy="714600"/>
          </a:xfrm>
          <a:prstGeom prst="roundRect">
            <a:avLst>
              <a:gd name="adj" fmla="val 16667"/>
            </a:avLst>
          </a:prstGeom>
          <a:solidFill>
            <a:srgbClr val="d9e4ee"/>
          </a:solidFill>
          <a:ln w="25560">
            <a:solidFill>
              <a:srgbClr val="014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c8c"/>
                </a:solidFill>
                <a:latin typeface="Tahoma"/>
                <a:ea typeface="Tahoma"/>
              </a:rPr>
              <a:t>Záklon hl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aoblený obdélník 8"/>
          <p:cNvSpPr/>
          <p:nvPr/>
        </p:nvSpPr>
        <p:spPr>
          <a:xfrm>
            <a:off x="2357280" y="5429160"/>
            <a:ext cx="2857680" cy="1000080"/>
          </a:xfrm>
          <a:prstGeom prst="roundRect">
            <a:avLst>
              <a:gd name="adj" fmla="val 16667"/>
            </a:avLst>
          </a:prstGeom>
          <a:solidFill>
            <a:srgbClr val="d9e4ee"/>
          </a:solidFill>
          <a:ln w="25560">
            <a:solidFill>
              <a:srgbClr val="014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c8c"/>
                </a:solidFill>
                <a:latin typeface="Tahoma"/>
                <a:ea typeface="Tahoma"/>
              </a:rPr>
              <a:t>Volné dýchací c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6:17:54Z</dcterms:created>
  <dc:creator>martin</dc:creator>
  <dc:description/>
  <dc:language>en-US</dc:language>
  <cp:lastModifiedBy>Katka</cp:lastModifiedBy>
  <dcterms:modified xsi:type="dcterms:W3CDTF">2009-03-17T11:36:16Z</dcterms:modified>
  <cp:revision>20</cp:revision>
  <dc:subject/>
  <dc:title>Rautekova zotavovací poloha</dc:title>
</cp:coreProperties>
</file>