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FE5-1A79-4908-A48D-F73316F1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3BE-EB34-473C-BEC6-DFB7A463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31E-D77D-4CD3-8AA6-3493A010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B93-B620-4519-8348-A383AA36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64E-192E-457C-AD65-E3D6E81F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DBB-F278-4626-A4EA-528B810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09D-77CD-416B-960F-E4083576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140-DD12-4153-BEDD-826DE6A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7DB-C7BF-4600-8A52-58F8D14E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85E-EF5B-4B5B-AC4B-266A52B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B54-77AE-49B7-8DB1-684643F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B23-C99B-4E1A-A038-E51DB1D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D86-B815-4394-A9DB-A8ABEBE18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zzsjmk.cz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krvácení – vnitř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" descr="08_05_23 199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… </a:t>
            </a: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i sport někdy b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4175280" y="622944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14c8c"/>
                </a:solidFill>
                <a:uFillTx/>
                <a:latin typeface="Arial"/>
                <a:hlinkClick r:id="rId2"/>
              </a:rPr>
              <a:t>www.zzsjmk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Bezvědom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viz bez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ři vědomí nepodcen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zvrac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spav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nevol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zmatenost pac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é bezvědomí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Vždy záchrannou službu 155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nitřní krvácení – hl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sejmout0008"/>
          <p:cNvPicPr/>
          <p:nvPr/>
        </p:nvPicPr>
        <p:blipFill>
          <a:blip r:embed="rId1"/>
          <a:stretch/>
        </p:blipFill>
        <p:spPr>
          <a:xfrm rot="183000">
            <a:off x="5356080" y="2344680"/>
            <a:ext cx="3689640" cy="38084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1"/>
          <p:cNvSpPr/>
          <p:nvPr/>
        </p:nvSpPr>
        <p:spPr>
          <a:xfrm>
            <a:off x="7315200" y="6172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Flegel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Mechanizmus úrazu:</a:t>
            </a:r>
            <a:r>
              <a:rPr b="0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tupý ná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hokej, lyžování, cyklistika, bojové spo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oloha po úrazu: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úlevov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Rozvoj šok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bledá studená kůže a studený p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zrychlený slábnoucí tep, nepravideln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mělké zrychlené dých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pocit žíz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neklid, str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  <a:ea typeface="Tahoma"/>
              </a:rPr>
              <a:t>nevolnost, zvrac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sejmout0011"/>
          <p:cNvPicPr/>
          <p:nvPr/>
        </p:nvPicPr>
        <p:blipFill>
          <a:blip r:embed="rId1"/>
          <a:stretch/>
        </p:blipFill>
        <p:spPr>
          <a:xfrm>
            <a:off x="6324480" y="1523880"/>
            <a:ext cx="2673360" cy="473076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nitřní krvácení – bři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7401600" y="6248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gel,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První pomoc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volání záchra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lužby 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15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respek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lohu pa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rotišoková opatřen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tekutiny –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nepodává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teplo</a:t>
            </a:r>
            <a:r>
              <a:rPr b="0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–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dbáme o teplotní poh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tišení bolesti</a:t>
            </a:r>
            <a:r>
              <a:rPr b="0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–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povzbuzení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transport –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netransportujeme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1" lang="cs-CZ" sz="2000" spc="-1" strike="noStrike">
                <a:solidFill>
                  <a:srgbClr val="ff0000"/>
                </a:solidFill>
                <a:latin typeface="Tahoma"/>
                <a:ea typeface="Tahoma"/>
              </a:rPr>
              <a:t>volání 155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tich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nitřní krvácení – bři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490800" y="4038480"/>
            <a:ext cx="24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Keggenhoff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Scan0008"/>
          <p:cNvPicPr/>
          <p:nvPr/>
        </p:nvPicPr>
        <p:blipFill>
          <a:blip r:embed="rId1"/>
          <a:stretch/>
        </p:blipFill>
        <p:spPr>
          <a:xfrm>
            <a:off x="4189320" y="1905120"/>
            <a:ext cx="4726080" cy="20415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Mechanizmus úrazu</a:t>
            </a: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: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autonehoda, pád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Příznaky:</a:t>
            </a: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dušnost, cyanóza, bolest při nádechu, někdy i vykašlávání k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r>
              <a:rPr b="1" i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olání ZZS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kontrola základních životních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acient při vědomí – protišoková opa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loha v polos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oranění hrudní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Skupina 13"/>
          <p:cNvGrpSpPr/>
          <p:nvPr/>
        </p:nvGrpSpPr>
        <p:grpSpPr>
          <a:xfrm>
            <a:off x="6172200" y="2057400"/>
            <a:ext cx="2895480" cy="2857680"/>
            <a:chOff x="6172200" y="2057400"/>
            <a:chExt cx="2895480" cy="2857680"/>
          </a:xfrm>
        </p:grpSpPr>
        <p:pic>
          <p:nvPicPr>
            <p:cNvPr id="348" name="Picture 8" descr="E:\prace\kubikova\panacek.png"/>
            <p:cNvPicPr/>
            <p:nvPr/>
          </p:nvPicPr>
          <p:blipFill>
            <a:blip r:embed="rId1"/>
            <a:stretch/>
          </p:blipFill>
          <p:spPr>
            <a:xfrm>
              <a:off x="6172200" y="2057400"/>
              <a:ext cx="28954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E:\prace\kubikova\panacek.png"/>
            <p:cNvPicPr/>
            <p:nvPr/>
          </p:nvPicPr>
          <p:blipFill>
            <a:blip r:embed="rId2"/>
            <a:stretch/>
          </p:blipFill>
          <p:spPr>
            <a:xfrm>
              <a:off x="6172200" y="2057400"/>
              <a:ext cx="289548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sejmout0028"/>
          <p:cNvPicPr/>
          <p:nvPr/>
        </p:nvPicPr>
        <p:blipFill>
          <a:blip r:embed="rId1"/>
          <a:stretch/>
        </p:blipFill>
        <p:spPr>
          <a:xfrm>
            <a:off x="1600200" y="1981080"/>
            <a:ext cx="5645160" cy="4440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14c8c"/>
                </a:solidFill>
                <a:latin typeface="Tahoma"/>
                <a:ea typeface="Tahoma"/>
              </a:rPr>
              <a:t>Při poraněních hrudníku může dojít ke kolapsu plí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neumotor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676200" y="6324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ČČK,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9-03-22T19:15:4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