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3C3-679F-4F75-9671-985FCBA6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F7A-412F-4627-853E-414E42AC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D4C-A3D1-43FC-B51D-1971C471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482-C8C3-47C8-A583-51CA919D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A2F-40D0-4CD5-9C17-910587F3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1A5-E564-45A5-866C-E5ECEF14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4C9-B0CA-4DCE-9445-35E02362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18E-D0B9-4178-BB37-3A40AE2F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BCB6-D568-40CC-AAD8-784E409B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4BA-F961-4530-B833-8EBDE1C3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C1F-F841-465A-9BBE-0ACD5C02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E15E-98FD-4A48-9D54-44B0DF72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C076-969F-49BD-BF56-9D16D4760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46" name="Elipsa 11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13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římá spojovací čára 7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římá spojovací čára 6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Nadpis 1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Klepnutím lze uprav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detstvibezurazu.cz/" TargetMode="External"/><Relationship Id="rId2" Type="http://schemas.openxmlformats.org/officeDocument/2006/relationships/hyperlink" Target="http://www.detstvibezurazu.cz/" TargetMode="External"/><Relationship Id="rId3" Type="http://schemas.openxmlformats.org/officeDocument/2006/relationships/hyperlink" Target="http://www.detstvibezurazu.cz/" TargetMode="External"/><Relationship Id="rId4" Type="http://schemas.openxmlformats.org/officeDocument/2006/relationships/hyperlink" Target="http://www.detstvibezurazu.cz/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14800" y="257148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4c8c"/>
                </a:solidFill>
                <a:latin typeface="Tahoma"/>
                <a:ea typeface="Tahoma"/>
              </a:rPr>
              <a:t>tepelná poran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4c8c"/>
                </a:solidFill>
                <a:latin typeface="Tahoma"/>
                <a:ea typeface="Tahoma"/>
              </a:rPr>
              <a:t>Lokální popáleniny – následná péč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6" descr="obrazek_154"/>
          <p:cNvPicPr/>
          <p:nvPr/>
        </p:nvPicPr>
        <p:blipFill>
          <a:blip r:embed="rId1"/>
          <a:srcRect l="3918" t="7174" r="2835" b="32851"/>
          <a:stretch/>
        </p:blipFill>
        <p:spPr>
          <a:xfrm>
            <a:off x="3691080" y="4205160"/>
            <a:ext cx="5357520" cy="258156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pic>
        <p:nvPicPr>
          <p:cNvPr id="365" name="Picture 8" descr="obrazek_171"/>
          <p:cNvPicPr/>
          <p:nvPr/>
        </p:nvPicPr>
        <p:blipFill>
          <a:blip r:embed="rId2"/>
          <a:srcRect l="1500" t="4258" r="53031" b="20940"/>
          <a:stretch/>
        </p:blipFill>
        <p:spPr>
          <a:xfrm>
            <a:off x="1576440" y="1357200"/>
            <a:ext cx="2143080" cy="264348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66" name="TextovéPole 13"/>
          <p:cNvSpPr/>
          <p:nvPr/>
        </p:nvSpPr>
        <p:spPr>
          <a:xfrm>
            <a:off x="95400" y="4772160"/>
            <a:ext cx="3500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Uvolňující nářez cirkulární popáleniny paže – rozestup nekrotické tkáně ukazuje míru útla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obrazek_171"/>
          <p:cNvPicPr/>
          <p:nvPr/>
        </p:nvPicPr>
        <p:blipFill>
          <a:blip r:embed="rId3"/>
          <a:srcRect l="49801" t="4258" r="2027" b="20940"/>
          <a:stretch/>
        </p:blipFill>
        <p:spPr>
          <a:xfrm>
            <a:off x="5295960" y="1357200"/>
            <a:ext cx="2271600" cy="264348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0" descr="obrazek_173"/>
          <p:cNvPicPr/>
          <p:nvPr/>
        </p:nvPicPr>
        <p:blipFill>
          <a:blip r:embed="rId1"/>
          <a:stretch/>
        </p:blipFill>
        <p:spPr>
          <a:xfrm>
            <a:off x="4786200" y="214200"/>
            <a:ext cx="3746520" cy="251964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pic>
        <p:nvPicPr>
          <p:cNvPr id="370" name="Picture 9" descr="obrazek_172"/>
          <p:cNvPicPr/>
          <p:nvPr/>
        </p:nvPicPr>
        <p:blipFill>
          <a:blip r:embed="rId2"/>
          <a:stretch/>
        </p:blipFill>
        <p:spPr>
          <a:xfrm>
            <a:off x="531720" y="214200"/>
            <a:ext cx="3683160" cy="251964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pic>
        <p:nvPicPr>
          <p:cNvPr id="371" name="Picture 12" descr="obrazek_174"/>
          <p:cNvPicPr/>
          <p:nvPr/>
        </p:nvPicPr>
        <p:blipFill>
          <a:blip r:embed="rId3"/>
          <a:stretch/>
        </p:blipFill>
        <p:spPr>
          <a:xfrm>
            <a:off x="571680" y="3571920"/>
            <a:ext cx="3684240" cy="251928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pic>
        <p:nvPicPr>
          <p:cNvPr id="372" name="Picture 13" descr="obrazek_175"/>
          <p:cNvPicPr/>
          <p:nvPr/>
        </p:nvPicPr>
        <p:blipFill>
          <a:blip r:embed="rId4"/>
          <a:stretch/>
        </p:blipFill>
        <p:spPr>
          <a:xfrm>
            <a:off x="4808520" y="3571920"/>
            <a:ext cx="3764160" cy="251928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73" name="TextovéPole 8"/>
          <p:cNvSpPr/>
          <p:nvPr/>
        </p:nvSpPr>
        <p:spPr>
          <a:xfrm>
            <a:off x="428760" y="2786040"/>
            <a:ext cx="37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opálenina vnitřní strany stehna – III. stupe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ovéPole 9"/>
          <p:cNvSpPr/>
          <p:nvPr/>
        </p:nvSpPr>
        <p:spPr>
          <a:xfrm>
            <a:off x="4500720" y="2786040"/>
            <a:ext cx="44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  <a:ea typeface="Tahoma"/>
              </a:rPr>
              <a:t>Plocha připravená nekrektomií a opakovanými převazy ke kožní transplanta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ovéPole 11"/>
          <p:cNvSpPr/>
          <p:nvPr/>
        </p:nvSpPr>
        <p:spPr>
          <a:xfrm>
            <a:off x="571680" y="6143760"/>
            <a:ext cx="371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Týden po transplantaci kůže – štěpy plně přihoj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ovéPole 12"/>
          <p:cNvSpPr/>
          <p:nvPr/>
        </p:nvSpPr>
        <p:spPr>
          <a:xfrm>
            <a:off x="4286160" y="6149880"/>
            <a:ext cx="478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tav po 3 měsících – vyzrávající štěpy, dosud přetrvávající barevné změny odběrové ploc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echnická první pom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volání záchranné služby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Tahoma"/>
              </a:rPr>
              <a:t>1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ledování vitálních fun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eprve potom péče o popálené ploch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  <a:ea typeface="Tahoma"/>
              </a:rPr>
              <a:t>chlazení jen do 5 % popáleného těla –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lokalizace obličej, krk, ruce, genitáli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eplota vody 4 – 8 °C – ne kostky ledu na kůž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terilní kry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149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První pomoc – zás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uhašení ohně, svlečení oděvu (nepřiškvařené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odstranění vodičů tepla (prstýnky, řetízky a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chlazení proudem vody 20 min max. </a:t>
            </a:r>
            <a:r>
              <a:rPr b="1" lang="cs-CZ" sz="2400" spc="-1" strike="noStrike">
                <a:solidFill>
                  <a:srgbClr val="ff3300"/>
                </a:solidFill>
                <a:latin typeface="Tahoma"/>
                <a:ea typeface="Tahoma"/>
              </a:rPr>
              <a:t>5 %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cs-CZ" sz="24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nechladit celé tě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sterilní kry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puchýře nepropich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nemazat žádné m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protišoková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znehybnění ošetřených čá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ahoma"/>
                <a:ea typeface="Tahoma"/>
              </a:rPr>
              <a:t>Lékař – u všech závažných stupňů na více než 1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86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První pomoc – pos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w8"/>
          <p:cNvPicPr/>
          <p:nvPr/>
        </p:nvPicPr>
        <p:blipFill>
          <a:blip r:embed="rId1"/>
          <a:stretch/>
        </p:blipFill>
        <p:spPr>
          <a:xfrm>
            <a:off x="6143760" y="3143160"/>
            <a:ext cx="17492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sejmout0062"/>
          <p:cNvPicPr/>
          <p:nvPr/>
        </p:nvPicPr>
        <p:blipFill>
          <a:blip r:embed="rId1"/>
          <a:stretch/>
        </p:blipFill>
        <p:spPr>
          <a:xfrm>
            <a:off x="249120" y="2071800"/>
            <a:ext cx="8645760" cy="25002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86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Úpal x úže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31440" y="1980720"/>
            <a:ext cx="76122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7188840" y="635796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Hasík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ovéPole 8"/>
          <p:cNvSpPr/>
          <p:nvPr/>
        </p:nvSpPr>
        <p:spPr>
          <a:xfrm>
            <a:off x="1428840" y="485784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Ú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ovéPole 9"/>
          <p:cNvSpPr/>
          <p:nvPr/>
        </p:nvSpPr>
        <p:spPr>
          <a:xfrm>
            <a:off x="5286240" y="485784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Úže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ůsobením paprsků slunečního záření na hlavu a ší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lokální přehřátí hlavy, přehřátí mozku a jeho oba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7ab"/>
                </a:solidFill>
                <a:latin typeface="Tahoma"/>
                <a:ea typeface="Tahoma"/>
              </a:rPr>
              <a:t>Příznaky:</a:t>
            </a:r>
            <a:r>
              <a:rPr b="0" lang="en-US" sz="3600" spc="-1" strike="noStrike">
                <a:solidFill>
                  <a:srgbClr val="0697ab"/>
                </a:solidFill>
                <a:latin typeface="Tahoma"/>
                <a:ea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ysoká teplota, u dětí křeče až bezvědo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471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Úže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ůsobením uzavřeného okolního prostředí teplejšího než je teplota lidského těla (kotelny, kuchyně aj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elkové přehřátí organismu -&gt; tělo se nemůže ochlazo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lang="en-US" sz="3600" spc="-1" strike="noStrike">
                <a:solidFill>
                  <a:srgbClr val="0697ab"/>
                </a:solidFill>
                <a:latin typeface="Tahoma"/>
                <a:ea typeface="Tahoma"/>
              </a:rPr>
              <a:t>Příznak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bolest hlavy, zarudlá suchá kůže, vysoká těles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eplota, ztráta vědom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400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Ú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r>
              <a:rPr b="0" lang="en-US" sz="36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uložení postiženého do chladného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olání ZZ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1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kontrola vitálních fun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hlazení –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  <a:ea typeface="Tahoma"/>
              </a:rPr>
              <a:t>hrudník 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289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Úpal + úže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324000" y="189000"/>
            <a:ext cx="46432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97ab"/>
                </a:solidFill>
                <a:latin typeface="Tahoma"/>
                <a:ea typeface="Tahoma"/>
              </a:rPr>
              <a:t>Nízké napě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ezpečnost zachrá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echnická první pomo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  <a:ea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  <a:ea typeface="Tahoma"/>
              </a:rPr>
              <a:t>odpojit přívod elektrického prou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7ab"/>
                </a:solidFill>
                <a:latin typeface="Tahoma"/>
                <a:ea typeface="Tahoma"/>
              </a:rPr>
              <a:t>Pomoc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vždy volat ZZS – i osoba při vědomí bez zjevných známek zranění může mít závažné poškození srd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ři vědom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– ošetřit popáleninu, poloha v polosed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bezvědomí –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dýchá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zahájení KPR  GL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686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Úraz elektrickým proud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6338520" y="4000680"/>
            <a:ext cx="2481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14c8c"/>
                </a:solidFill>
                <a:uFillTx/>
                <a:latin typeface="Tahoma"/>
                <a:ea typeface="Tahoma"/>
                <a:hlinkClick r:id="rId1"/>
              </a:rPr>
              <a:t>www.</a:t>
            </a:r>
            <a:r>
              <a:rPr b="0" lang="cs-CZ" sz="1600" spc="-1" strike="noStrike" u="sng">
                <a:solidFill>
                  <a:srgbClr val="014c8c"/>
                </a:solidFill>
                <a:uFillTx/>
                <a:latin typeface="Tahoma"/>
                <a:ea typeface="Tahoma"/>
                <a:hlinkClick r:id="rId2"/>
              </a:rPr>
              <a:t>detstvibezurazu</a:t>
            </a:r>
            <a:r>
              <a:rPr b="0" lang="cs-CZ" sz="1600" spc="-1" strike="noStrike" u="sng">
                <a:solidFill>
                  <a:srgbClr val="014c8c"/>
                </a:solidFill>
                <a:uFillTx/>
                <a:latin typeface="Tahoma"/>
                <a:ea typeface="Tahoma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014c8c"/>
                </a:solidFill>
                <a:uFillTx/>
                <a:latin typeface="Tahoma"/>
                <a:ea typeface="Tahoma"/>
                <a:hlinkClick r:id="rId4"/>
              </a:rPr>
              <a:t>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Zástupný symbol pro obsah 6" descr="Obrázek1.jpg"/>
          <p:cNvPicPr/>
          <p:nvPr/>
        </p:nvPicPr>
        <p:blipFill>
          <a:blip r:embed="rId5"/>
          <a:stretch/>
        </p:blipFill>
        <p:spPr>
          <a:xfrm>
            <a:off x="5180040" y="1357200"/>
            <a:ext cx="38019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97ab"/>
                </a:solidFill>
                <a:latin typeface="Tahoma"/>
                <a:ea typeface="Tahoma"/>
              </a:rPr>
              <a:t>PAMATUJ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I bez přímého kontaktu s elektrickým proudem může dojít k život ohrožujícímu zranění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86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4c8c"/>
                </a:solidFill>
                <a:latin typeface="Tahoma"/>
                <a:ea typeface="Tahoma"/>
              </a:rPr>
              <a:t>Prevence úrazů vysokým napětí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1965240" y="6215040"/>
            <a:ext cx="25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lustrační fo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9" descr="Ilustrační foto"/>
          <p:cNvPicPr/>
          <p:nvPr/>
        </p:nvPicPr>
        <p:blipFill>
          <a:blip r:embed="rId1"/>
          <a:stretch/>
        </p:blipFill>
        <p:spPr>
          <a:xfrm>
            <a:off x="4572000" y="3386160"/>
            <a:ext cx="4429080" cy="332892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68360" y="595008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0"/>
          </a:bodyPr>
          <a:p>
            <a:pPr marL="68400" indent="-68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                                   </a:t>
            </a:r>
            <a:r>
              <a:rPr b="0" lang="cs-CZ" sz="700" spc="-1" strike="noStrike">
                <a:solidFill>
                  <a:srgbClr val="000000"/>
                </a:solidFill>
                <a:latin typeface="Tahoma"/>
                <a:ea typeface="Tahoma"/>
              </a:rPr>
              <a:t>Foto: Jan Srnský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543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Prev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Scan0006"/>
          <p:cNvPicPr/>
          <p:nvPr/>
        </p:nvPicPr>
        <p:blipFill>
          <a:blip r:embed="rId1"/>
          <a:stretch/>
        </p:blipFill>
        <p:spPr>
          <a:xfrm>
            <a:off x="2693880" y="1574640"/>
            <a:ext cx="3756240" cy="478332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32" name="Text Box 5"/>
          <p:cNvSpPr/>
          <p:nvPr/>
        </p:nvSpPr>
        <p:spPr>
          <a:xfrm>
            <a:off x="4762800" y="6407280"/>
            <a:ext cx="160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cs-CZ" sz="1400" spc="-1" strike="noStrike">
                <a:solidFill>
                  <a:srgbClr val="000000"/>
                </a:solidFill>
                <a:latin typeface="Tahoma"/>
                <a:ea typeface="Tahoma"/>
              </a:rPr>
              <a:t>Srnský,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ýsledek působení extrémních teplot, horké páry, plamenem, záření, elektrického proudu (včetně zásahu blesk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4c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4c8c"/>
                </a:solidFill>
                <a:latin typeface="Tahoma"/>
                <a:ea typeface="Tahoma"/>
              </a:rPr>
              <a:t>Lokální</a:t>
            </a:r>
            <a:r>
              <a:rPr b="0" lang="en-US" sz="2800" spc="-1" strike="noStrike">
                <a:solidFill>
                  <a:srgbClr val="014c8c"/>
                </a:solidFill>
                <a:latin typeface="Tahoma"/>
                <a:ea typeface="Tahoma"/>
              </a:rPr>
              <a:t> –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  <a:ea typeface="Tahoma"/>
              </a:rPr>
              <a:t>popáleniny, opařeniny, úž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4c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4c8c"/>
                </a:solidFill>
                <a:latin typeface="Tahoma"/>
                <a:ea typeface="Tahoma"/>
              </a:rPr>
              <a:t>Celkové </a:t>
            </a:r>
            <a:r>
              <a:rPr b="0" lang="en-US" sz="2800" spc="-1" strike="noStrike">
                <a:solidFill>
                  <a:srgbClr val="014c8c"/>
                </a:solidFill>
                <a:latin typeface="Tahoma"/>
                <a:ea typeface="Tahoma"/>
              </a:rPr>
              <a:t>–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  <a:ea typeface="Tahoma"/>
              </a:rPr>
              <a:t>ú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57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Poško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ůležitý j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  <a:ea typeface="Tahoma"/>
              </a:rPr>
              <a:t>stupeň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  <a:ea typeface="Tahoma"/>
              </a:rPr>
              <a:t>plocha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oško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tupně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97ab"/>
                </a:solidFill>
                <a:latin typeface="Tahoma"/>
                <a:ea typeface="Tahoma"/>
              </a:rPr>
              <a:t>1. stupe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97ab"/>
                </a:solidFill>
                <a:latin typeface="Tahoma"/>
                <a:ea typeface="Tahoma"/>
              </a:rPr>
              <a:t>2. stupe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97ab"/>
                </a:solidFill>
                <a:latin typeface="Tahoma"/>
                <a:ea typeface="Tahoma"/>
              </a:rPr>
              <a:t>3. stupe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15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Hodnocení lokálních pora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5" descr="obrazek_57"/>
          <p:cNvPicPr/>
          <p:nvPr/>
        </p:nvPicPr>
        <p:blipFill>
          <a:blip r:embed="rId1"/>
          <a:stretch/>
        </p:blipFill>
        <p:spPr>
          <a:xfrm>
            <a:off x="2857680" y="2216160"/>
            <a:ext cx="61452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popaleniny"/>
          <p:cNvPicPr/>
          <p:nvPr/>
        </p:nvPicPr>
        <p:blipFill>
          <a:blip r:embed="rId1"/>
          <a:stretch/>
        </p:blipFill>
        <p:spPr>
          <a:xfrm>
            <a:off x="500040" y="1357200"/>
            <a:ext cx="2500200" cy="50864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3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Stupně popál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ovéPole 3"/>
          <p:cNvSpPr/>
          <p:nvPr/>
        </p:nvSpPr>
        <p:spPr>
          <a:xfrm>
            <a:off x="3429000" y="1800360"/>
            <a:ext cx="27860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pál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rvního stup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ovéPole 4"/>
          <p:cNvSpPr/>
          <p:nvPr/>
        </p:nvSpPr>
        <p:spPr>
          <a:xfrm>
            <a:off x="3571920" y="3357720"/>
            <a:ext cx="2500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pálenina druhého stup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ovéPole 6"/>
          <p:cNvSpPr/>
          <p:nvPr/>
        </p:nvSpPr>
        <p:spPr>
          <a:xfrm>
            <a:off x="3678120" y="4786200"/>
            <a:ext cx="2251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pál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řetího stup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ovéPole 7"/>
          <p:cNvSpPr/>
          <p:nvPr/>
        </p:nvSpPr>
        <p:spPr>
          <a:xfrm>
            <a:off x="5214960" y="640224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raveno dle                       ,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3" descr="popaleniny"/>
          <p:cNvPicPr/>
          <p:nvPr/>
        </p:nvPicPr>
        <p:blipFill>
          <a:blip r:embed="rId2"/>
          <a:stretch/>
        </p:blipFill>
        <p:spPr>
          <a:xfrm>
            <a:off x="6572160" y="1357200"/>
            <a:ext cx="2286000" cy="4714920"/>
          </a:xfrm>
          <a:prstGeom prst="rect">
            <a:avLst/>
          </a:prstGeom>
          <a:ln w="0">
            <a:noFill/>
          </a:ln>
        </p:spPr>
      </p:pic>
      <p:sp>
        <p:nvSpPr>
          <p:cNvPr id="345" name="Obdélník 12"/>
          <p:cNvSpPr/>
          <p:nvPr/>
        </p:nvSpPr>
        <p:spPr>
          <a:xfrm>
            <a:off x="6429240" y="3429000"/>
            <a:ext cx="35748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bdélník 13"/>
          <p:cNvSpPr/>
          <p:nvPr/>
        </p:nvSpPr>
        <p:spPr>
          <a:xfrm>
            <a:off x="6357960" y="5000760"/>
            <a:ext cx="35712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popaleniny"/>
          <p:cNvPicPr/>
          <p:nvPr/>
        </p:nvPicPr>
        <p:blipFill>
          <a:blip r:embed="rId3"/>
          <a:stretch/>
        </p:blipFill>
        <p:spPr>
          <a:xfrm>
            <a:off x="6848640" y="6357960"/>
            <a:ext cx="12952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7ab"/>
                </a:solidFill>
                <a:latin typeface="Tahoma"/>
                <a:ea typeface="Tahoma"/>
              </a:rPr>
              <a:t>Nebezpečí šo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ítě 0 – 2 roky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2 % - 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ospělý 16 – 70 let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2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43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Vyhodnoc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Scan0013"/>
          <p:cNvPicPr/>
          <p:nvPr/>
        </p:nvPicPr>
        <p:blipFill>
          <a:blip r:embed="rId1"/>
          <a:stretch/>
        </p:blipFill>
        <p:spPr>
          <a:xfrm>
            <a:off x="5572080" y="1571760"/>
            <a:ext cx="3154320" cy="435744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51" name="Text Box 5"/>
          <p:cNvSpPr/>
          <p:nvPr/>
        </p:nvSpPr>
        <p:spPr>
          <a:xfrm>
            <a:off x="7378200" y="600084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  <a:ea typeface="Tahoma"/>
              </a:rPr>
              <a:t>Stelzer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obrazek_150"/>
          <p:cNvPicPr/>
          <p:nvPr/>
        </p:nvPicPr>
        <p:blipFill>
          <a:blip r:embed="rId1"/>
          <a:stretch/>
        </p:blipFill>
        <p:spPr>
          <a:xfrm>
            <a:off x="2189160" y="2108160"/>
            <a:ext cx="4765680" cy="351000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829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Lokální popálen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ovéPole 8"/>
          <p:cNvSpPr/>
          <p:nvPr/>
        </p:nvSpPr>
        <p:spPr>
          <a:xfrm>
            <a:off x="785880" y="631512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opálenina I. stupně (po stranách krku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I.a stupně (uprostř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6" descr="obrazek_151"/>
          <p:cNvPicPr/>
          <p:nvPr/>
        </p:nvPicPr>
        <p:blipFill>
          <a:blip r:embed="rId1"/>
          <a:stretch/>
        </p:blipFill>
        <p:spPr>
          <a:xfrm>
            <a:off x="1440000" y="1560600"/>
            <a:ext cx="6264000" cy="444024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829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Lokální popálen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ovéPole 8"/>
          <p:cNvSpPr/>
          <p:nvPr/>
        </p:nvSpPr>
        <p:spPr>
          <a:xfrm>
            <a:off x="2678040" y="618156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pálenina II.b stup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obrazek_153"/>
          <p:cNvPicPr/>
          <p:nvPr/>
        </p:nvPicPr>
        <p:blipFill>
          <a:blip r:embed="rId1"/>
          <a:stretch/>
        </p:blipFill>
        <p:spPr>
          <a:xfrm>
            <a:off x="1219320" y="1566720"/>
            <a:ext cx="6705360" cy="457704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757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Lokální popálen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ovéPole 8"/>
          <p:cNvSpPr/>
          <p:nvPr/>
        </p:nvSpPr>
        <p:spPr>
          <a:xfrm>
            <a:off x="2562840" y="6286680"/>
            <a:ext cx="40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pálenina III. stup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23:05:13Z</dcterms:created>
  <dc:creator>David</dc:creator>
  <dc:description/>
  <dc:language>en-US</dc:language>
  <cp:lastModifiedBy>Katka</cp:lastModifiedBy>
  <dcterms:modified xsi:type="dcterms:W3CDTF">2009-03-18T10:34:18Z</dcterms:modified>
  <cp:revision>217</cp:revision>
  <dc:subject/>
  <dc:title>Poranění</dc:title>
</cp:coreProperties>
</file>