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400800" cy="86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773440" cy="4348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4"/>
          </p:nvPr>
        </p:nvSpPr>
        <p:spPr>
          <a:xfrm>
            <a:off x="3625920" y="0"/>
            <a:ext cx="2773440" cy="4348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1028520" y="650520"/>
            <a:ext cx="4343400" cy="325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6040" rIns="8604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5"/>
          </p:nvPr>
        </p:nvSpPr>
        <p:spPr>
          <a:xfrm>
            <a:off x="0" y="8249760"/>
            <a:ext cx="2773440" cy="435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6"/>
          </p:nvPr>
        </p:nvSpPr>
        <p:spPr>
          <a:xfrm>
            <a:off x="3625920" y="8249760"/>
            <a:ext cx="2773440" cy="435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425B-B4BD-4164-BF60-9140934B3B3D}" type="slidenum"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Zástupný symbol pro číslo snímku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5CEE-B7F0-4B26-8175-F6470F58AC62}" type="slidenum">
              <a:rPr b="1" lang="cs-CZ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64B0-98CF-4C49-8595-6DEF60CF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C881-D72F-4455-8B76-D38E1DB2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7F50-53D3-4525-BE98-41767E415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0183-6622-424B-B2EB-F769FD212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F147-E36C-43E1-8484-65C70B56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7BBA-134E-4CFB-A3AC-20D90A25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98DB-EE1B-4E8D-92E1-4EBB0C57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DC77-ABA6-421B-A243-0089AB45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777B-9203-46CD-AAFE-0CDDB7ED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694A-FC1B-4F93-B990-E7957488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878B-E67F-484A-A65A-4060B6E8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5A67-6E73-4A21-BB6F-1856CF8A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CC8A-F4F7-4E32-9AE6-CFAD4478C4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římá spojovací čára 6"/>
          <p:cNvSpPr/>
          <p:nvPr/>
        </p:nvSpPr>
        <p:spPr>
          <a:xfrm>
            <a:off x="0" y="3714840"/>
            <a:ext cx="9144000" cy="0"/>
          </a:xfrm>
          <a:prstGeom prst="line">
            <a:avLst/>
          </a:prstGeom>
          <a:ln w="2133720">
            <a:solidFill>
              <a:srgbClr val="d9e4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Elipsa 7"/>
          <p:cNvSpPr/>
          <p:nvPr/>
        </p:nvSpPr>
        <p:spPr>
          <a:xfrm>
            <a:off x="190440" y="1285920"/>
            <a:ext cx="2952720" cy="295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Nadpis 3"/>
          <p:cNvSpPr/>
          <p:nvPr/>
        </p:nvSpPr>
        <p:spPr>
          <a:xfrm>
            <a:off x="3730680" y="1571760"/>
            <a:ext cx="489744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697ab"/>
                </a:solidFill>
                <a:latin typeface="Tahoma"/>
                <a:ea typeface="Tahoma"/>
              </a:rPr>
              <a:t>PRVNÍ POMOC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9"/>
          <p:cNvSpPr/>
          <p:nvPr/>
        </p:nvSpPr>
        <p:spPr>
          <a:xfrm>
            <a:off x="4071960" y="371484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Mgr. Zdeňka Kubíková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Bc. Barbora Zuchová a ko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282600" y="1407960"/>
            <a:ext cx="2789280" cy="2735280"/>
          </a:xfrm>
          <a:prstGeom prst="rect">
            <a:avLst/>
          </a:prstGeom>
          <a:ln w="0">
            <a:noFill/>
          </a:ln>
        </p:spPr>
      </p:pic>
      <p:sp>
        <p:nvSpPr>
          <p:cNvPr id="46" name="Elipsa 11"/>
          <p:cNvSpPr/>
          <p:nvPr/>
        </p:nvSpPr>
        <p:spPr>
          <a:xfrm>
            <a:off x="190440" y="1285920"/>
            <a:ext cx="2952720" cy="295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Nadpis 3"/>
          <p:cNvSpPr/>
          <p:nvPr/>
        </p:nvSpPr>
        <p:spPr>
          <a:xfrm>
            <a:off x="3730680" y="1571760"/>
            <a:ext cx="489744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697ab"/>
                </a:solidFill>
                <a:latin typeface="Tahoma"/>
                <a:ea typeface="Tahoma"/>
              </a:rPr>
              <a:t>PRVNÍ POMOC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ovéPole 13"/>
          <p:cNvSpPr/>
          <p:nvPr/>
        </p:nvSpPr>
        <p:spPr>
          <a:xfrm>
            <a:off x="4071960" y="371484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Mgr. Zdeňka Kubíková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Bc. Barbora Zuchová a ko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3"/>
          <a:stretch/>
        </p:blipFill>
        <p:spPr>
          <a:xfrm>
            <a:off x="282600" y="1407960"/>
            <a:ext cx="2789280" cy="2735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římá spojovací čára 7"/>
          <p:cNvSpPr/>
          <p:nvPr/>
        </p:nvSpPr>
        <p:spPr>
          <a:xfrm>
            <a:off x="0" y="844560"/>
            <a:ext cx="9144000" cy="3240"/>
          </a:xfrm>
          <a:prstGeom prst="line">
            <a:avLst/>
          </a:prstGeom>
          <a:ln w="698400">
            <a:solidFill>
              <a:srgbClr val="d9e4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římá spojovací čára 6"/>
          <p:cNvSpPr/>
          <p:nvPr/>
        </p:nvSpPr>
        <p:spPr>
          <a:xfrm>
            <a:off x="0" y="844560"/>
            <a:ext cx="9144000" cy="3240"/>
          </a:xfrm>
          <a:prstGeom prst="line">
            <a:avLst/>
          </a:prstGeom>
          <a:ln w="698400">
            <a:solidFill>
              <a:srgbClr val="d9e4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římá spojovací čára 6"/>
          <p:cNvSpPr/>
          <p:nvPr/>
        </p:nvSpPr>
        <p:spPr>
          <a:xfrm>
            <a:off x="0" y="3714840"/>
            <a:ext cx="9144000" cy="0"/>
          </a:xfrm>
          <a:prstGeom prst="line">
            <a:avLst/>
          </a:prstGeom>
          <a:ln w="213372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Elipsa 7"/>
          <p:cNvSpPr/>
          <p:nvPr/>
        </p:nvSpPr>
        <p:spPr>
          <a:xfrm>
            <a:off x="190440" y="1285920"/>
            <a:ext cx="2952720" cy="295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Nadpis 3"/>
          <p:cNvSpPr/>
          <p:nvPr/>
        </p:nvSpPr>
        <p:spPr>
          <a:xfrm>
            <a:off x="3730680" y="1571760"/>
            <a:ext cx="489744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697ab"/>
                </a:solidFill>
                <a:latin typeface="Tahoma"/>
                <a:ea typeface="Tahoma"/>
              </a:rPr>
              <a:t>PRVNÍ POMOC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ovéPole 9"/>
          <p:cNvSpPr/>
          <p:nvPr/>
        </p:nvSpPr>
        <p:spPr>
          <a:xfrm>
            <a:off x="4071960" y="371484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Mgr. Zdeňka Kubíková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Bc. Barbora Zuchová a ko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2"/>
          <a:stretch/>
        </p:blipFill>
        <p:spPr>
          <a:xfrm>
            <a:off x="282600" y="1407960"/>
            <a:ext cx="2789280" cy="27352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Nadpis 1"/>
          <p:cNvSpPr/>
          <p:nvPr/>
        </p:nvSpPr>
        <p:spPr>
          <a:xfrm>
            <a:off x="457200" y="27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Klepnutím lze upravi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14800" y="2571480"/>
            <a:ext cx="59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14c8c"/>
                </a:solidFill>
                <a:latin typeface="Tahoma"/>
                <a:ea typeface="Tahoma"/>
              </a:rPr>
              <a:t>neúrazové sta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697ab"/>
                </a:solidFill>
                <a:latin typeface="Tahoma"/>
                <a:ea typeface="Tahoma"/>
              </a:rPr>
              <a:t>První pomo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volání </a:t>
            </a:r>
            <a:r>
              <a:rPr b="1" lang="cs-CZ" sz="2800" spc="-1" strike="noStrike">
                <a:solidFill>
                  <a:srgbClr val="ff3300"/>
                </a:solidFill>
                <a:latin typeface="Tahoma"/>
                <a:ea typeface="Tahoma"/>
              </a:rPr>
              <a:t>ZZS 155 nebo návštěva pohotov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nedávat nap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úlevová poloh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nepodceňte jakoukoliv bolest břich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3300"/>
                </a:solidFill>
                <a:latin typeface="Tahoma"/>
                <a:ea typeface="Tahoma"/>
              </a:rPr>
              <a:t>Nikdy nepodáváme léky proti bolesti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86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Náhlé příhody bři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4" descr="Scan0008"/>
          <p:cNvPicPr/>
          <p:nvPr/>
        </p:nvPicPr>
        <p:blipFill>
          <a:blip r:embed="rId1"/>
          <a:stretch/>
        </p:blipFill>
        <p:spPr>
          <a:xfrm>
            <a:off x="1714680" y="4227480"/>
            <a:ext cx="4105080" cy="177336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sp>
        <p:nvSpPr>
          <p:cNvPr id="363" name="TextovéPole 4"/>
          <p:cNvSpPr/>
          <p:nvPr/>
        </p:nvSpPr>
        <p:spPr>
          <a:xfrm>
            <a:off x="5471280" y="5702400"/>
            <a:ext cx="27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  <a:ea typeface="Tahoma"/>
              </a:rPr>
              <a:t>Keggenhoff, 200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Epilepsie, přehřátí organismu, úrazy hlavy, febrilní křeče, otravy a jiné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697ab"/>
                </a:solidFill>
                <a:latin typeface="Tahoma"/>
                <a:ea typeface="Tahoma"/>
              </a:rPr>
              <a:t>Příznak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porucha vědomí, neschopnost komunikov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při velkém záchvatu křeče a záškuby celého těla, velké riziko celkového poranění, možné pomočení, pokálení a pěna u ú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6860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Křečové st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697ab"/>
                </a:solidFill>
                <a:latin typeface="Tahoma"/>
                <a:ea typeface="Tahoma"/>
              </a:rPr>
              <a:t>První pomoc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ahoma"/>
                <a:ea typeface="Tahoma"/>
              </a:rPr>
              <a:t>zabránit druhotným poraněním především hlavy, ne násilí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ahoma"/>
                <a:ea typeface="Tahoma"/>
              </a:rPr>
              <a:t>nevkládat nic do ú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0000"/>
                </a:solidFill>
                <a:latin typeface="Tahoma"/>
                <a:ea typeface="Tahoma"/>
              </a:rPr>
              <a:t>po záchvatu</a:t>
            </a:r>
            <a:r>
              <a:rPr b="0" lang="cs-CZ" sz="27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ahoma"/>
                <a:ea typeface="Tahoma"/>
              </a:rPr>
              <a:t>kontrola základních životních funkcí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ahoma"/>
                <a:ea typeface="Tahoma"/>
              </a:rPr>
              <a:t>u febrilních křečí (děti 6 měsíců až 5 let) – snižovat horečku obklady z vlažné vody. Přikládat je do třísel a do podpaží. Nikdy ne na hrudník.</a:t>
            </a:r>
            <a:r>
              <a:rPr b="1" lang="cs-CZ" sz="2700" spc="-1" strike="noStrike">
                <a:solidFill>
                  <a:srgbClr val="ff3300"/>
                </a:solidFill>
                <a:latin typeface="Tahoma"/>
                <a:ea typeface="Tahom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ahoma"/>
                <a:ea typeface="Tahoma"/>
              </a:rPr>
              <a:t>Záchranná služba 1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6860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Křečové st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náhle vzniklá porucha vědom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vzniká nedokrvením mozku z různých příčin – např. při únavě, vyčerpání, úlek, rychlé postavení, dehydratace a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0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Kolaps – mdlo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0560" indent="-250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697ab"/>
                </a:solidFill>
                <a:latin typeface="Tahoma"/>
                <a:ea typeface="Tahoma"/>
              </a:rPr>
              <a:t>První pomoc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560" indent="-250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čerstvý vzduch, uvolnit odě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560" indent="-250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poloha vleže se zvednutými dolními končetinami, sledování základních životních funk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560" indent="-250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560" indent="-250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560" indent="-2505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  <a:ea typeface="Tahoma"/>
              </a:rPr>
              <a:t>Při dlouhodobějším bezvědomí nebo </a:t>
            </a:r>
            <a:br>
              <a:rPr sz="2800"/>
            </a:br>
            <a:r>
              <a:rPr b="1" lang="cs-CZ" sz="2800" spc="-1" strike="noStrike">
                <a:solidFill>
                  <a:srgbClr val="ff0000"/>
                </a:solidFill>
                <a:latin typeface="Tahoma"/>
                <a:ea typeface="Tahoma"/>
              </a:rPr>
              <a:t>v případě opakování příhody či nezlepšení obtíží po poskytnutí první pomoci volání ZZS 1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Kolaps – mdlo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římá spojovací čára 5"/>
          <p:cNvSpPr/>
          <p:nvPr/>
        </p:nvSpPr>
        <p:spPr>
          <a:xfrm>
            <a:off x="4782960" y="846000"/>
            <a:ext cx="4356360" cy="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E:\prace\kubikova\panacek2.png"/>
          <p:cNvPicPr/>
          <p:nvPr/>
        </p:nvPicPr>
        <p:blipFill>
          <a:blip r:embed="rId1"/>
          <a:stretch/>
        </p:blipFill>
        <p:spPr>
          <a:xfrm>
            <a:off x="4786200" y="2143080"/>
            <a:ext cx="4214880" cy="22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697ab"/>
                </a:solidFill>
                <a:latin typeface="Tahoma"/>
                <a:ea typeface="Tahoma"/>
              </a:rPr>
              <a:t>Alergická reak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po </a:t>
            </a:r>
            <a:r>
              <a:rPr b="0" lang="cs-CZ" sz="2400" spc="-1" strike="noStrike">
                <a:solidFill>
                  <a:srgbClr val="ff0000"/>
                </a:solidFill>
                <a:latin typeface="Tahoma"/>
                <a:ea typeface="Tahoma"/>
              </a:rPr>
              <a:t>bodnutí hmyzem (včela, vosa)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, potravinové a jiné alergie</a:t>
            </a:r>
            <a:r>
              <a:rPr b="0" lang="cs-CZ" sz="24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U alergiků může dojít k uzavření dýchacích cest otok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697ab"/>
                </a:solidFill>
                <a:latin typeface="Tahoma"/>
                <a:ea typeface="Tahoma"/>
              </a:rPr>
              <a:t>Přízna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dušnost při vdechu, kaš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pak cyanóza, svědění, kopřivka, nevolnost, až anafylaktický š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697ab"/>
                </a:solidFill>
                <a:latin typeface="Tahoma"/>
                <a:ea typeface="Tahoma"/>
              </a:rPr>
              <a:t>První pomo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záchranná služba </a:t>
            </a:r>
            <a:r>
              <a:rPr b="0" lang="cs-CZ" sz="2400" spc="-1" strike="noStrike">
                <a:solidFill>
                  <a:srgbClr val="ff0000"/>
                </a:solidFill>
                <a:latin typeface="Tahoma"/>
                <a:ea typeface="Tahoma"/>
              </a:rPr>
              <a:t>155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, chla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ahoma"/>
                <a:ea typeface="Tahoma"/>
              </a:rPr>
              <a:t>Vzrůstá procento alergiků v populac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329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Alergická reak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Skupina 10"/>
          <p:cNvGrpSpPr/>
          <p:nvPr/>
        </p:nvGrpSpPr>
        <p:grpSpPr>
          <a:xfrm>
            <a:off x="6075360" y="2595600"/>
            <a:ext cx="3068640" cy="3190680"/>
            <a:chOff x="6075360" y="2595600"/>
            <a:chExt cx="3068640" cy="3190680"/>
          </a:xfrm>
        </p:grpSpPr>
        <p:pic>
          <p:nvPicPr>
            <p:cNvPr id="377" name="Picture 7" descr="E:\prace\kubikova\panacek.png"/>
            <p:cNvPicPr/>
            <p:nvPr/>
          </p:nvPicPr>
          <p:blipFill>
            <a:blip r:embed="rId1"/>
            <a:stretch/>
          </p:blipFill>
          <p:spPr>
            <a:xfrm>
              <a:off x="6075360" y="2595600"/>
              <a:ext cx="3068640" cy="31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7" descr="E:\prace\kubikova\panacek.png"/>
            <p:cNvPicPr/>
            <p:nvPr/>
          </p:nvPicPr>
          <p:blipFill>
            <a:blip r:embed="rId2"/>
            <a:stretch/>
          </p:blipFill>
          <p:spPr>
            <a:xfrm>
              <a:off x="6075360" y="2595600"/>
              <a:ext cx="3068640" cy="3190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9" name="Picture 4" descr="bee"/>
          <p:cNvPicPr/>
          <p:nvPr/>
        </p:nvPicPr>
        <p:blipFill>
          <a:blip r:embed="rId3"/>
          <a:stretch/>
        </p:blipFill>
        <p:spPr>
          <a:xfrm>
            <a:off x="7215120" y="214200"/>
            <a:ext cx="192888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599840"/>
            <a:ext cx="647208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697ab"/>
                </a:solidFill>
                <a:latin typeface="Tahoma"/>
                <a:ea typeface="Tahoma"/>
              </a:rPr>
              <a:t>Příčina:</a:t>
            </a:r>
            <a:r>
              <a:rPr b="0" lang="cs-CZ" sz="2800" spc="-1" strike="noStrike">
                <a:solidFill>
                  <a:srgbClr val="0697ab"/>
                </a:solidFill>
                <a:latin typeface="Tahoma"/>
                <a:ea typeface="Tahom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vzniká nadměrným dýcháním (hyperventilace), v důsledku kterého dochází ke snížení hladiny CO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 a charakteristickým křečím (tetan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720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Hyperventilační teta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 flipV="1" rot="11009400">
            <a:off x="-345960" y="6855840"/>
            <a:ext cx="11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5" descr="anim506"/>
          <p:cNvPicPr/>
          <p:nvPr/>
        </p:nvPicPr>
        <p:blipFill>
          <a:blip r:embed="rId1"/>
          <a:stretch/>
        </p:blipFill>
        <p:spPr>
          <a:xfrm>
            <a:off x="7215120" y="1025640"/>
            <a:ext cx="1928880" cy="2847960"/>
          </a:xfrm>
          <a:prstGeom prst="rect">
            <a:avLst/>
          </a:prstGeom>
          <a:ln w="0">
            <a:noFill/>
          </a:ln>
        </p:spPr>
      </p:pic>
      <p:sp>
        <p:nvSpPr>
          <p:cNvPr id="384" name="TextovéPole 10"/>
          <p:cNvSpPr/>
          <p:nvPr/>
        </p:nvSpPr>
        <p:spPr>
          <a:xfrm>
            <a:off x="500040" y="3921120"/>
            <a:ext cx="8215200" cy="32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697ab"/>
                </a:solidFill>
                <a:latin typeface="Tahoma"/>
                <a:ea typeface="Tahoma"/>
              </a:rPr>
              <a:t>Příznaky: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brnění v okolí úst, charakteristické zkroucení rukou, rozrušen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697ab"/>
                </a:solidFill>
                <a:latin typeface="Tahoma"/>
                <a:ea typeface="Tahoma"/>
              </a:rPr>
              <a:t>První pomoc: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uklidnění, zpětné dýchání do sáčk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  <a:ea typeface="Tahoma"/>
              </a:rPr>
              <a:t>Pod vodou je hyperventilace osudná!!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85840" y="1600200"/>
            <a:ext cx="8758080" cy="5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14c8c"/>
                </a:solidFill>
                <a:latin typeface="Tahoma"/>
                <a:ea typeface="Tahoma"/>
              </a:rPr>
              <a:t>Již v sanitce se pacientovi dostává vysoce odborné péč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4004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Pamatuj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6" descr="C:\Documents and Settings\Kubíková\Plocha\foto-KPCR\zdenka grant\Kopie - IMG_4865.jpg"/>
          <p:cNvPicPr/>
          <p:nvPr/>
        </p:nvPicPr>
        <p:blipFill>
          <a:blip r:embed="rId1"/>
          <a:stretch/>
        </p:blipFill>
        <p:spPr>
          <a:xfrm>
            <a:off x="2786040" y="2286000"/>
            <a:ext cx="6143760" cy="409572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sp>
        <p:nvSpPr>
          <p:cNvPr id="388" name="TextovéPole 10"/>
          <p:cNvSpPr/>
          <p:nvPr/>
        </p:nvSpPr>
        <p:spPr>
          <a:xfrm>
            <a:off x="214200" y="3206880"/>
            <a:ext cx="242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Neboj se volat 155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ovéPole 5"/>
          <p:cNvSpPr/>
          <p:nvPr/>
        </p:nvSpPr>
        <p:spPr>
          <a:xfrm>
            <a:off x="6641280" y="6429240"/>
            <a:ext cx="25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14c8c"/>
                </a:solidFill>
                <a:latin typeface="Tahoma"/>
                <a:ea typeface="Tahoma"/>
              </a:rPr>
              <a:t>www.zzsjmk.cz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697ab"/>
                </a:solidFill>
                <a:latin typeface="Tahoma"/>
                <a:ea typeface="Tahoma"/>
              </a:rPr>
              <a:t>Infarkt myokardu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přerušení dodávky O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 k srdečnímu sv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697ab"/>
                </a:solidFill>
                <a:latin typeface="Tahoma"/>
                <a:ea typeface="Tahoma"/>
              </a:rPr>
              <a:t>Příznak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bolest na hrudi (typická svíravá bolest, šířící se do krku, horní končetiny, břich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ahoma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nevolnost, zvracení, pocení, neklid, strach ze smrti, duš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719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Infarkt myokard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56840" y="160020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volání ZZ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uklidn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poloha v polosed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nepodávat tekut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  <a:ea typeface="Tahoma"/>
              </a:rPr>
              <a:t>U léčených pacientů se aktivně ptát po lécí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14c8c"/>
                </a:solidFill>
                <a:latin typeface="Tahoma"/>
                <a:ea typeface="Tahoma"/>
              </a:rPr>
              <a:t>Výzva k aplikaci nitroglycerin – spray nebo tableta</a:t>
            </a:r>
            <a:r>
              <a:rPr b="0" lang="cs-CZ" sz="2800" spc="-1" strike="noStrike">
                <a:solidFill>
                  <a:srgbClr val="333399"/>
                </a:solidFill>
                <a:latin typeface="Tahoma"/>
                <a:ea typeface="Tahoma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4005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První pom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5" descr="E:\prace\kubikova\panacek.png"/>
          <p:cNvPicPr/>
          <p:nvPr/>
        </p:nvPicPr>
        <p:blipFill>
          <a:blip r:embed="rId1"/>
          <a:stretch/>
        </p:blipFill>
        <p:spPr>
          <a:xfrm>
            <a:off x="5072040" y="1285920"/>
            <a:ext cx="3691080" cy="38386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E:\prace\kubikova\panacek.png"/>
          <p:cNvPicPr/>
          <p:nvPr/>
        </p:nvPicPr>
        <p:blipFill>
          <a:blip r:embed="rId2"/>
          <a:stretch/>
        </p:blipFill>
        <p:spPr>
          <a:xfrm>
            <a:off x="5072040" y="1285920"/>
            <a:ext cx="369108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45684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697ab"/>
                </a:solidFill>
                <a:latin typeface="Tahoma"/>
                <a:ea typeface="Tahoma"/>
              </a:rPr>
              <a:t>Cévní mozková příhoda: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přerušení přívodu kr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do mozk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ischemie, krvácení do moz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různé stupně závaž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697ab"/>
                </a:solidFill>
                <a:latin typeface="Tahoma"/>
                <a:ea typeface="Tahoma"/>
              </a:rPr>
              <a:t>Příznaky:</a:t>
            </a:r>
            <a:r>
              <a:rPr b="0" lang="cs-CZ" sz="2800" spc="-1" strike="noStrike">
                <a:solidFill>
                  <a:srgbClr val="0697ab"/>
                </a:solidFill>
                <a:latin typeface="Tahoma"/>
                <a:ea typeface="Tahom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od zmatenosti, ochrnutí části těla, zhoršení slovní komunikace, závratě, (může připomínat opilost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až po okamžitou sm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720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Cévní mozková příh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kontrola základních životních funk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pacient při vědomí – absolutní klid, bez pohybu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pacient v bezvědomí ( viz.bezvědom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neprodlené volání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  <a:ea typeface="Tahoma"/>
              </a:rPr>
              <a:t>ZZS 15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257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První pom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ovéPole 8"/>
          <p:cNvSpPr/>
          <p:nvPr/>
        </p:nvSpPr>
        <p:spPr>
          <a:xfrm>
            <a:off x="500040" y="3071880"/>
            <a:ext cx="5715000" cy="38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697ab"/>
                </a:solidFill>
                <a:latin typeface="Tahoma"/>
                <a:ea typeface="Tahoma"/>
              </a:rPr>
              <a:t>Vyvolávající faktory:</a:t>
            </a:r>
            <a:r>
              <a:rPr b="1" i="1" lang="cs-CZ" sz="2400" spc="-1" strike="noStrike">
                <a:solidFill>
                  <a:srgbClr val="0697ab"/>
                </a:solidFill>
                <a:latin typeface="Tahoma"/>
                <a:ea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psychický stres, námaha, zevní alergeny, chladný vzduch, infek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697ab"/>
                </a:solidFill>
                <a:latin typeface="Tahoma"/>
                <a:ea typeface="Tahoma"/>
              </a:rPr>
              <a:t>Příznaky: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záchvatová dušnost, prodloužený výdech se sípání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dráždění ke kaš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697ab"/>
                </a:solidFill>
                <a:latin typeface="Tahoma"/>
                <a:ea typeface="Tahoma"/>
              </a:rPr>
              <a:t>První pomoc: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poloha v polosedu, uklidnění, uvolnění oděvu</a:t>
            </a:r>
            <a:r>
              <a:rPr b="0" lang="cs-CZ" sz="24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ahoma"/>
                <a:ea typeface="Tahoma"/>
              </a:rPr>
              <a:t>ZZS 15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60020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697ab"/>
                </a:solidFill>
                <a:latin typeface="Tahoma"/>
                <a:ea typeface="Tahoma"/>
              </a:rPr>
              <a:t>Bronchiální astma</a:t>
            </a:r>
            <a:r>
              <a:rPr b="0" lang="cs-CZ" sz="2400" spc="-1" strike="noStrike">
                <a:solidFill>
                  <a:srgbClr val="0697ab"/>
                </a:solidFill>
                <a:latin typeface="Tahoma"/>
                <a:ea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je chronické zánětlivé onemocnění dýchacích cest projevujících se zúžením průsvitu bronchů při záchva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9719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Astmatický záchv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5" descr="asthma1"/>
          <p:cNvPicPr/>
          <p:nvPr/>
        </p:nvPicPr>
        <p:blipFill>
          <a:blip r:embed="rId1"/>
          <a:stretch/>
        </p:blipFill>
        <p:spPr>
          <a:xfrm>
            <a:off x="6357960" y="2556000"/>
            <a:ext cx="2643120" cy="358776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sp>
        <p:nvSpPr>
          <p:cNvPr id="350" name="Text Box 9"/>
          <p:cNvSpPr/>
          <p:nvPr/>
        </p:nvSpPr>
        <p:spPr>
          <a:xfrm>
            <a:off x="5929200" y="6164280"/>
            <a:ext cx="30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  <a:ea typeface="Tahoma"/>
              </a:rPr>
              <a:t>výzva k aplikaci léků – spr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Skupina 11"/>
          <p:cNvGrpSpPr/>
          <p:nvPr/>
        </p:nvGrpSpPr>
        <p:grpSpPr>
          <a:xfrm>
            <a:off x="3429000" y="3929040"/>
            <a:ext cx="2571840" cy="2691000"/>
            <a:chOff x="3429000" y="3929040"/>
            <a:chExt cx="2571840" cy="2691000"/>
          </a:xfrm>
        </p:grpSpPr>
        <p:pic>
          <p:nvPicPr>
            <p:cNvPr id="352" name="Picture 7" descr="E:\prace\kubikova\panacek.png"/>
            <p:cNvPicPr/>
            <p:nvPr/>
          </p:nvPicPr>
          <p:blipFill>
            <a:blip r:embed="rId2"/>
            <a:stretch/>
          </p:blipFill>
          <p:spPr>
            <a:xfrm>
              <a:off x="3429000" y="3944880"/>
              <a:ext cx="2571840" cy="267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Picture 7" descr="E:\prace\kubikova\panacek.png"/>
            <p:cNvPicPr/>
            <p:nvPr/>
          </p:nvPicPr>
          <p:blipFill>
            <a:blip r:embed="rId3"/>
            <a:stretch/>
          </p:blipFill>
          <p:spPr>
            <a:xfrm>
              <a:off x="3429000" y="3929040"/>
              <a:ext cx="2571840" cy="2675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44880" indent="-344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697ab"/>
                </a:solidFill>
                <a:latin typeface="Tahoma"/>
                <a:ea typeface="Tahoma"/>
              </a:rPr>
              <a:t>Cukrovka – </a:t>
            </a:r>
            <a:r>
              <a:rPr b="1" i="1" lang="cs-CZ" sz="2400" spc="-1" strike="noStrike">
                <a:solidFill>
                  <a:srgbClr val="0697ab"/>
                </a:solidFill>
                <a:latin typeface="Tahoma"/>
                <a:ea typeface="Tahoma"/>
              </a:rPr>
              <a:t>Diabetes mellitus</a:t>
            </a:r>
            <a:r>
              <a:rPr b="0" lang="cs-CZ" sz="2400" spc="-1" strike="noStrike">
                <a:solidFill>
                  <a:srgbClr val="0697ab"/>
                </a:solidFill>
                <a:latin typeface="Tahoma"/>
                <a:ea typeface="Tahoma"/>
              </a:rPr>
              <a:t>: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porucha regulace hladiny cukru v krvi (glykémie). Nemocný si aplikuje inzulin nebo bere lé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880" indent="-344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ahoma"/>
                <a:ea typeface="Tahoma"/>
              </a:rPr>
              <a:t>Každý léčený diabetik by měl mít u sebe průkaz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880" indent="-344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880" indent="-344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697ab"/>
                </a:solidFill>
                <a:latin typeface="Tahoma"/>
                <a:ea typeface="Tahoma"/>
              </a:rPr>
              <a:t>Hyperglyké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880" indent="-344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ještě neléčený nebo špatně léčený pac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880" indent="-344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bezvědomí během desítek hodin a d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880" indent="-344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697ab"/>
                </a:solidFill>
                <a:latin typeface="Tahoma"/>
                <a:ea typeface="Tahoma"/>
              </a:rPr>
              <a:t>Hypoglykémie</a:t>
            </a:r>
            <a:r>
              <a:rPr b="0" lang="cs-CZ" sz="2400" spc="-1" strike="noStrike">
                <a:solidFill>
                  <a:srgbClr val="0697ab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880" indent="-344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po aplikaci inzulínu se nenají nebo nepřiměřeně sportuje, případně si aplikuje větší množství inzuli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880" indent="-344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bezvědomí </a:t>
            </a:r>
            <a:r>
              <a:rPr b="1" lang="cs-CZ" sz="2400" spc="-1" strike="noStrike">
                <a:solidFill>
                  <a:srgbClr val="ff0000"/>
                </a:solidFill>
                <a:latin typeface="Tahoma"/>
                <a:ea typeface="Tahoma"/>
              </a:rPr>
              <a:t>během desítek minu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00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Cukrovka – </a:t>
            </a:r>
            <a:r>
              <a:rPr b="0" i="1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Diabetes melli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697ab"/>
                </a:solidFill>
                <a:latin typeface="Tahoma"/>
                <a:ea typeface="Tahoma"/>
              </a:rPr>
              <a:t>Příznaky:</a:t>
            </a:r>
            <a:r>
              <a:rPr b="0" lang="cs-CZ" sz="2400" spc="-1" strike="noStrike">
                <a:solidFill>
                  <a:srgbClr val="0697ab"/>
                </a:solidFill>
                <a:latin typeface="Tahoma"/>
                <a:ea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porucha vědomí, možný zápach z úst, bolest hlavy, slabost, motorický neklid, velký hlad, pocení, nevo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697ab"/>
                </a:solidFill>
                <a:latin typeface="Tahoma"/>
                <a:ea typeface="Tahoma"/>
              </a:rPr>
              <a:t>První pomoc:</a:t>
            </a:r>
            <a:r>
              <a:rPr b="0" lang="cs-CZ" sz="2800" spc="-1" strike="noStrike">
                <a:solidFill>
                  <a:srgbClr val="0697ab"/>
                </a:solidFill>
                <a:latin typeface="Tahoma"/>
                <a:ea typeface="Tahom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předpokládáme </a:t>
            </a:r>
            <a:r>
              <a:rPr b="1" lang="cs-CZ" sz="2800" spc="-1" strike="noStrike">
                <a:solidFill>
                  <a:srgbClr val="014c8c"/>
                </a:solidFill>
                <a:latin typeface="Tahoma"/>
                <a:ea typeface="Tahoma"/>
              </a:rPr>
              <a:t>hypoglykémi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ahoma"/>
                <a:ea typeface="Tahoma"/>
              </a:rPr>
              <a:t>při vědomí</a:t>
            </a:r>
            <a:r>
              <a:rPr b="0" lang="cs-CZ" sz="24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– sladký nápoj nebo cukr, </a:t>
            </a:r>
            <a:r>
              <a:rPr b="0" lang="cs-CZ" sz="2400" spc="-1" strike="noStrike">
                <a:solidFill>
                  <a:srgbClr val="014c8c"/>
                </a:solidFill>
                <a:latin typeface="Tahoma"/>
                <a:ea typeface="Tahoma"/>
              </a:rPr>
              <a:t>poté se najíst!</a:t>
            </a:r>
            <a:r>
              <a:rPr b="0" lang="cs-CZ" sz="2400" spc="-1" strike="noStrike">
                <a:solidFill>
                  <a:srgbClr val="ff33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ahoma"/>
                <a:ea typeface="Tahoma"/>
              </a:rPr>
              <a:t>bezvědomí</a:t>
            </a:r>
            <a:r>
              <a:rPr b="0" lang="cs-CZ" sz="24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– kontrola životních funkc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ahoma"/>
                <a:ea typeface="Tahoma"/>
              </a:rPr>
              <a:t>ZZS  1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ahoma"/>
                <a:ea typeface="Tahoma"/>
              </a:rPr>
              <a:t>NIKDY NEPODÁVAT INZ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149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První pomoc – cukrov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697ab"/>
                </a:solidFill>
                <a:latin typeface="Tahoma"/>
                <a:ea typeface="Tahoma"/>
              </a:rPr>
              <a:t>Náhlé příhody břišn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akutní příhoda z mnoha příč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697ab"/>
                </a:solidFill>
                <a:latin typeface="Tahoma"/>
                <a:ea typeface="Tahoma"/>
              </a:rPr>
              <a:t>Příznak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plošná nebo lokalizovaná bolest, často šokují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prknovité stažení svalů břišní stěny </a:t>
            </a:r>
            <a:r>
              <a:rPr b="0" lang="cs-CZ" sz="2800" spc="-1" strike="noStrike">
                <a:solidFill>
                  <a:srgbClr val="ff3300"/>
                </a:solidFill>
                <a:latin typeface="Tahoma"/>
                <a:ea typeface="Tahoma"/>
              </a:rPr>
              <a:t>(není vžd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zvracení, nitkovitý puls, rozvoj šoku, průjem, někdy tepl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86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Náhlé příhody bři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0:55:10Z</dcterms:created>
  <dc:creator>V. Perina</dc:creator>
  <dc:description/>
  <dc:language>en-US</dc:language>
  <cp:lastModifiedBy>Your User Name</cp:lastModifiedBy>
  <dcterms:modified xsi:type="dcterms:W3CDTF">2009-03-22T19:28:35Z</dcterms:modified>
  <cp:revision>143</cp:revision>
  <dc:subject/>
  <dc:title>Neúrazové urgentní stavy</dc:title>
</cp:coreProperties>
</file>