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400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4"/>
          </p:nvPr>
        </p:nvSpPr>
        <p:spPr>
          <a:xfrm>
            <a:off x="362592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028520" y="6505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5"/>
          </p:nvPr>
        </p:nvSpPr>
        <p:spPr>
          <a:xfrm>
            <a:off x="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6"/>
          </p:nvPr>
        </p:nvSpPr>
        <p:spPr>
          <a:xfrm>
            <a:off x="362592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2369-9DCA-47DA-AF48-E20ED68CCD3E}" type="slidenum"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21C3-2FDE-4EC7-8525-84CFB6C845BD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4EFE-C32A-4252-A4F7-70CF29A398C8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1650-2DFA-4C74-8A80-7C04D9AD49B1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F35-A9F9-4F61-B907-1B9A0C1E2E98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1A9-159B-42F0-8926-B202659884AE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9BD-5446-4E37-B287-A35B4EF3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6D8-E540-459B-9EC7-BA143B5B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54A-475D-4074-AA7B-4D658E29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5BB-407C-4979-A18F-C3EC2421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FE4-7D2C-43D3-A1B8-9CC1C2C6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4C5-1D73-4CB9-9291-CDA2DF4E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5F1-23B6-4F1D-A3FD-90634E5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002-2B63-4FD3-A044-B015BC6A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19E-1D3B-4378-BB8C-E815DC1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588-A666-48FB-8910-2C78DD84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C66-38A7-46C1-B92F-8D9FAB85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477-ACE0-4244-B005-B8B9E1E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D042-7F85-491F-B116-90E9AFFB6F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14800" y="264276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aspirace (vdechnutí) cizího těl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65040" y="1874520"/>
            <a:ext cx="845496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Příčina: 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  <a:ea typeface="Tahoma"/>
              </a:rPr>
              <a:t>sousto, u dětí drobné předmě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14c8c"/>
                </a:solidFill>
                <a:latin typeface="Tahoma"/>
                <a:ea typeface="Tahoma"/>
              </a:rPr>
              <a:t>Příznaky</a:t>
            </a:r>
            <a:r>
              <a:rPr b="1" lang="cs-CZ" sz="2300" spc="-1" strike="noStrike">
                <a:solidFill>
                  <a:srgbClr val="014c8c"/>
                </a:solidFill>
                <a:latin typeface="Tahoma"/>
                <a:ea typeface="Tahoma"/>
              </a:rPr>
              <a:t>:</a:t>
            </a:r>
            <a:r>
              <a:rPr b="1" lang="cs-CZ" sz="23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  <a:ea typeface="Tahoma"/>
              </a:rPr>
              <a:t>dušnost, kašlání (obranný mechanizmus), dávení, panický strach, cyanóz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333399"/>
                </a:solidFill>
                <a:latin typeface="Tahoma"/>
                <a:ea typeface="Tahoma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ahoma"/>
                <a:ea typeface="Tahoma"/>
              </a:rPr>
              <a:t>První pomo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14c8c"/>
                </a:solidFill>
                <a:latin typeface="Tahoma"/>
                <a:ea typeface="Tahoma"/>
              </a:rPr>
              <a:t>Pacient při vědom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4128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výzva ke kaš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4128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údery mezi lopa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4128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Heimlichův manévr -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neprovádíme u těhotných a dětí</a:t>
            </a:r>
            <a:r>
              <a:rPr b="0" lang="cs-CZ" sz="24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do jednoho roku a není proveditelný u extrémně obézního jed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14c8c"/>
                </a:solidFill>
                <a:latin typeface="Tahoma"/>
                <a:ea typeface="Tahoma"/>
              </a:rPr>
              <a:t>Pacient v bezvědomí, nedýchá </a:t>
            </a:r>
            <a:r>
              <a:rPr b="0" lang="cs-CZ" sz="2300" spc="-1" strike="noStrike">
                <a:solidFill>
                  <a:srgbClr val="333399"/>
                </a:solidFill>
                <a:latin typeface="Tahoma"/>
                <a:ea typeface="Tahoma"/>
              </a:rPr>
              <a:t>–</a:t>
            </a:r>
            <a:r>
              <a:rPr b="1" lang="cs-CZ" sz="2300" spc="-1" strike="noStrike">
                <a:solidFill>
                  <a:srgbClr val="cc3300"/>
                </a:solidFill>
                <a:latin typeface="Tahoma"/>
                <a:ea typeface="Tahom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  <a:ea typeface="Tahoma"/>
              </a:rPr>
              <a:t>zahájení KPR  GL 200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86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Dospělý nebo dítě od 1 ro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12"/>
          <p:cNvGrpSpPr/>
          <p:nvPr/>
        </p:nvGrpSpPr>
        <p:grpSpPr>
          <a:xfrm>
            <a:off x="4552920" y="6224760"/>
            <a:ext cx="2171880" cy="645840"/>
            <a:chOff x="4552920" y="6224760"/>
            <a:chExt cx="2171880" cy="645840"/>
          </a:xfrm>
        </p:grpSpPr>
        <p:pic>
          <p:nvPicPr>
            <p:cNvPr id="339" name="Rectangle 12" descr=""/>
            <p:cNvPicPr/>
            <p:nvPr/>
          </p:nvPicPr>
          <p:blipFill>
            <a:blip r:embed="rId1"/>
            <a:stretch/>
          </p:blipFill>
          <p:spPr>
            <a:xfrm>
              <a:off x="4552920" y="6224760"/>
              <a:ext cx="21718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572000" y="6242040"/>
              <a:ext cx="2139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280" rIns="116280" tIns="57960" bIns="57960" anchor="t">
              <a:spAutoFit/>
            </a:bodyPr>
            <a:p>
              <a:pPr algn="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              </a:t>
              </a:r>
              <a:r>
                <a:rPr b="1" lang="cs-CZ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urin,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00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Údery mezi lopa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C:\Documents and Settings\Kubíková\Plocha\Nová složka\08_1109 011.jpg"/>
          <p:cNvPicPr/>
          <p:nvPr/>
        </p:nvPicPr>
        <p:blipFill>
          <a:blip r:embed="rId2"/>
          <a:stretch/>
        </p:blipFill>
        <p:spPr>
          <a:xfrm>
            <a:off x="2357280" y="135720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 flipV="1" rot="10800000">
            <a:off x="6429240" y="6357240"/>
            <a:ext cx="18576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Turin,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85840" y="1599840"/>
            <a:ext cx="44719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ahoma"/>
                <a:ea typeface="Tahoma"/>
              </a:rPr>
              <a:t>Vždy riziko pro postiženého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43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Heimlichův manév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C:\Documents and Settings\Kubíková\Plocha\Nová složka\08_1109 046.jpg"/>
          <p:cNvPicPr/>
          <p:nvPr/>
        </p:nvPicPr>
        <p:blipFill>
          <a:blip r:embed="rId1"/>
          <a:stretch/>
        </p:blipFill>
        <p:spPr>
          <a:xfrm>
            <a:off x="4714920" y="1428840"/>
            <a:ext cx="3585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dušení"/>
          <p:cNvPicPr/>
          <p:nvPr/>
        </p:nvPicPr>
        <p:blipFill>
          <a:blip r:embed="rId1"/>
          <a:stretch/>
        </p:blipFill>
        <p:spPr>
          <a:xfrm>
            <a:off x="1554120" y="1601640"/>
            <a:ext cx="6035760" cy="45230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Vypuzení tělesa – dítě do 1 ro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3571920" y="6178680"/>
            <a:ext cx="4006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Turin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17:03:42Z</dcterms:created>
  <dc:creator>Zdeňka</dc:creator>
  <dc:description/>
  <dc:language>en-US</dc:language>
  <cp:lastModifiedBy>Katka</cp:lastModifiedBy>
  <dcterms:modified xsi:type="dcterms:W3CDTF">2009-03-18T10:03:58Z</dcterms:modified>
  <cp:revision>50</cp:revision>
  <dc:subject/>
  <dc:title>Aspirace cizího tělesa</dc:title>
</cp:coreProperties>
</file>