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400800" cy="8686800"/>
</p:presentation>
</file>

<file path=ppt/commentAuthors.xml><?xml version="1.0" encoding="utf-8"?>
<p:cmAuthorLst xmlns:p="http://schemas.openxmlformats.org/presentationml/2006/main">
  <p:cmAuthor id="0" name="Katka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9-03-18T10:55:21.796000000" idx="1">
    <p:pos x="10" y="10"/>
    <p:text>Navrhuji začít větu velkým písmenem bez trojtečky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2A6-EA72-4EA4-8B07-C808C9D2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7CC-12C5-40AA-BD6E-E185EFCB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6B6-6B38-4946-85FA-AF267493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A4C-AB44-45A5-8281-A7E9B0B1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AA3-7941-44DC-9051-C856C183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54F-3E32-4D34-9B57-46B0937B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CB3-2F0F-4211-9C8E-398AE702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E28-8B0B-465E-A49B-2C9589B5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A89-95E6-4969-8196-65A00992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C2D-AA52-434E-AD85-DDEBE96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3EA-FAE5-46CB-A769-4707978F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26E-A940-4863-960F-7D0A9FD1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C913-CA5F-43D9-BFFE-3EB32F0F78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Elipsa 11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13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7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římá spojovací čára 6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Nadpis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lepnutím lze uprav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š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… </a:t>
            </a:r>
            <a:r>
              <a:rPr b="1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šok v první pomoci neléčíme, ale odvracím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Š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1980720"/>
            <a:ext cx="8610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Selhání oběhu z různých příčin; neléčený může vést ke smr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Následkem je nedostatečná dodávka O</a:t>
            </a:r>
            <a:r>
              <a:rPr b="1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 tkáním, která startuje metabolické změ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Dynamický dě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Není psychickou reakcí na dramatickou situac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Š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Ztráta cirkulující tekutiny –</a:t>
            </a:r>
            <a:r>
              <a:rPr b="0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masivní krvácení, dehydratace, rozsáhlé popálen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Relativní ztráta tekutiny –</a:t>
            </a:r>
            <a:r>
              <a:rPr b="0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anafylaktický šok (nepřiměřená alergická reakce), septický š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Snížená výkonnost srdce</a:t>
            </a:r>
            <a:r>
              <a:rPr b="0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–</a:t>
            </a:r>
            <a:r>
              <a:rPr b="0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např. infarkt myokardu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Formy a příčiny šo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Zvratné (reversibilní) –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stačí kompenzační reakce orga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Nezvratné (ireversibilní) –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orgánové poruchy, ztráta vědomí, vede ke sm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Šok patří mezi život ohrožující stav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24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Stádia šo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90476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bledá, studená ků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studený 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závratě, slabost, pocit na omd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zrychlený slábnoucí tep… ne vždy nepravid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mělké zrychlené dých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ocit žíz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neklid, str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nevolnost, zvra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oruchy vědomí... desorientace, ospalost, bezvědo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řízna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ošetření toho, co může být příčinou š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protišoková pol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pravidlo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  <a:ea typeface="Tahoma"/>
              </a:rPr>
              <a:t>5</a:t>
            </a: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  <a:ea typeface="Tahoma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t</a:t>
            </a: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ekutiny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podává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t</a:t>
            </a: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eplo</a:t>
            </a:r>
            <a:r>
              <a:rPr b="0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– dbáme o teplotní poh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t</a:t>
            </a: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išení bolesti</a:t>
            </a:r>
            <a:r>
              <a:rPr b="0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– povzbuzení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t</a:t>
            </a: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ransport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transportujeme...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volání 155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t</a:t>
            </a: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ich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29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rvní pom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E:\prace\kubikova\panacek2.png"/>
          <p:cNvPicPr/>
          <p:nvPr/>
        </p:nvPicPr>
        <p:blipFill>
          <a:blip r:embed="rId1"/>
          <a:stretch/>
        </p:blipFill>
        <p:spPr>
          <a:xfrm>
            <a:off x="4876920" y="2133720"/>
            <a:ext cx="41148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09-03-22T19:17:42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