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5"/>
          </p:nvPr>
        </p:nvSpPr>
        <p:spPr>
          <a:xfrm>
            <a:off x="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6"/>
          </p:nvPr>
        </p:nvSpPr>
        <p:spPr>
          <a:xfrm>
            <a:off x="362592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A5C-8DFA-40B0-AC75-CF8B1B3A33C7}" type="slidenum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2E5-61A5-44FB-BA9E-7E51E9A21107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125-5A80-4346-9C0D-76FE3498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1F8-F51F-422A-9412-29FE766D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9BD-0CCD-466A-8388-815A580D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8EE-EBF6-4B01-8FDD-ABBC38F9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D55-9AEE-4568-8A73-726B5DF5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685-AA73-4B82-BF6C-8DE5714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FC0-D19D-4D6C-86F8-D2F95DCC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D64-93B9-4BD6-BA56-313231CA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448-1852-4679-B369-E56B1662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18F-F655-4C2A-A55A-74FEB50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77-D558-460C-A6B8-34E6582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D58-9285-4F78-AC58-D1F8C2E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FD81-C5A3-4586-9968-0C1683365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4c8c"/>
                </a:solidFill>
                <a:latin typeface="Tahoma"/>
                <a:ea typeface="Tahoma"/>
              </a:rPr>
              <a:t>poranění pohybového apará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hla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Zásada chlazení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nikdy nepřikládejte led na holou tkáň. Způsobíte omrzl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ixace elastickým obinad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 rozsáhlých zhmoždě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očítat s větší ztrátou k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ontuze – zhmož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j0301480"/>
          <p:cNvPicPr/>
          <p:nvPr/>
        </p:nvPicPr>
        <p:blipFill>
          <a:blip r:embed="rId1"/>
          <a:stretch/>
        </p:blipFill>
        <p:spPr>
          <a:xfrm>
            <a:off x="5562720" y="3809880"/>
            <a:ext cx="3276360" cy="243864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ovací čára 5"/>
          <p:cNvSpPr/>
          <p:nvPr/>
        </p:nvSpPr>
        <p:spPr>
          <a:xfrm>
            <a:off x="5904000" y="846000"/>
            <a:ext cx="324000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erozchá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vednout konče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hla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ávštěva zdravotnického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Distorze – podvrt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istorze jpg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31316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7355520" y="6262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Flege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římá spojovací čára 7"/>
          <p:cNvSpPr/>
          <p:nvPr/>
        </p:nvSpPr>
        <p:spPr>
          <a:xfrm>
            <a:off x="5877000" y="846000"/>
            <a:ext cx="327636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zajistit ve vynucené pol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enapravov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volat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Luxace – vyklou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944680" y="2895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105520" y="496404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xace loketního klou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římá spojovací čára 9"/>
          <p:cNvSpPr/>
          <p:nvPr/>
        </p:nvSpPr>
        <p:spPr>
          <a:xfrm>
            <a:off x="5715000" y="846000"/>
            <a:ext cx="3419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ejmout0001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297504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sejmout0013"/>
          <p:cNvPicPr/>
          <p:nvPr/>
        </p:nvPicPr>
        <p:blipFill>
          <a:blip r:embed="rId1"/>
          <a:stretch/>
        </p:blipFill>
        <p:spPr>
          <a:xfrm>
            <a:off x="2502000" y="1371600"/>
            <a:ext cx="4140000" cy="532296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  <p:sp>
        <p:nvSpPr>
          <p:cNvPr id="186" name="Text Box 8"/>
          <p:cNvSpPr/>
          <p:nvPr/>
        </p:nvSpPr>
        <p:spPr>
          <a:xfrm>
            <a:off x="6771240" y="64152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Flege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Mechanizmus úrazu – lux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římá spojovací čára 5"/>
          <p:cNvSpPr/>
          <p:nvPr/>
        </p:nvSpPr>
        <p:spPr>
          <a:xfrm>
            <a:off x="7812000" y="846000"/>
            <a:ext cx="133200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nehybnit,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naprav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chladit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s výjimkou zlomenin dlouhých k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 zlomenin dlouhých kostí hrozí šok – protišoková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volat ZZS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Fraktury – zlom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sejmout0039"/>
          <p:cNvPicPr/>
          <p:nvPr/>
        </p:nvPicPr>
        <p:blipFill>
          <a:blip r:embed="rId1"/>
          <a:srcRect l="0" t="0" r="2632" b="0"/>
          <a:stretch/>
        </p:blipFill>
        <p:spPr>
          <a:xfrm>
            <a:off x="4876920" y="1905120"/>
            <a:ext cx="4114800" cy="341784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  <p:sp>
        <p:nvSpPr>
          <p:cNvPr id="192" name="Text Box 7"/>
          <p:cNvSpPr/>
          <p:nvPr/>
        </p:nvSpPr>
        <p:spPr>
          <a:xfrm>
            <a:off x="5181480" y="5410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Collesova zlomenina, ČČK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římá spojovací čára 7"/>
          <p:cNvSpPr/>
          <p:nvPr/>
        </p:nvSpPr>
        <p:spPr>
          <a:xfrm>
            <a:off x="5904000" y="846000"/>
            <a:ext cx="324000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fixace horní konče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Fraktury – zlom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876920" y="609588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533520" y="567864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Použití šátkového závě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Foto:  Zuchová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8"/>
          <p:cNvSpPr/>
          <p:nvPr/>
        </p:nvSpPr>
        <p:spPr>
          <a:xfrm>
            <a:off x="5904000" y="846000"/>
            <a:ext cx="324000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08_05-31 005"/>
          <p:cNvPicPr/>
          <p:nvPr/>
        </p:nvPicPr>
        <p:blipFill>
          <a:blip r:embed="rId1"/>
          <a:stretch/>
        </p:blipFill>
        <p:spPr>
          <a:xfrm>
            <a:off x="3503520" y="2324160"/>
            <a:ext cx="5335560" cy="400032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0880" y="25142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Nenapravovat, volat ZZS 155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lahy použijem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pouz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v případě nutnosti transportu laik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Scan0016"/>
          <p:cNvPicPr/>
          <p:nvPr/>
        </p:nvPicPr>
        <p:blipFill>
          <a:blip r:embed="rId1"/>
          <a:stretch/>
        </p:blipFill>
        <p:spPr>
          <a:xfrm>
            <a:off x="817560" y="3424320"/>
            <a:ext cx="7508880" cy="29764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3"/>
          <p:cNvSpPr/>
          <p:nvPr/>
        </p:nvSpPr>
        <p:spPr>
          <a:xfrm>
            <a:off x="5032800" y="6095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ánková a kol.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Fraktury – zlom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římá spojovací čára 6"/>
          <p:cNvSpPr/>
          <p:nvPr/>
        </p:nvSpPr>
        <p:spPr>
          <a:xfrm>
            <a:off x="5904000" y="846000"/>
            <a:ext cx="324000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fixace dolní konče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sejmout0022"/>
          <p:cNvPicPr/>
          <p:nvPr/>
        </p:nvPicPr>
        <p:blipFill>
          <a:blip r:embed="rId1"/>
          <a:stretch/>
        </p:blipFill>
        <p:spPr>
          <a:xfrm rot="21540000">
            <a:off x="4419720" y="1371600"/>
            <a:ext cx="4572000" cy="5083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7703280" y="2697120"/>
            <a:ext cx="106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0,8 lit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198560" y="4278240"/>
            <a:ext cx="106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2,5 lit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848720" y="3529080"/>
            <a:ext cx="86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5 lit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084800" y="5443560"/>
            <a:ext cx="71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1 li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ovéPole 11"/>
          <p:cNvSpPr/>
          <p:nvPr/>
        </p:nvSpPr>
        <p:spPr>
          <a:xfrm>
            <a:off x="7458120" y="3195720"/>
            <a:ext cx="1179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99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97ab"/>
                </a:solidFill>
                <a:latin typeface="Tahoma"/>
                <a:ea typeface="Tahoma"/>
              </a:rPr>
              <a:t>PAMATUJ: U zlomenin dlouhých kostí a u vícečetných zlomeni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hrozí š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Krevní ztráty u zlom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29528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raveno podle Beránková 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k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římá spojovací čára 11"/>
          <p:cNvSpPr/>
          <p:nvPr/>
        </p:nvSpPr>
        <p:spPr>
          <a:xfrm>
            <a:off x="6659640" y="846000"/>
            <a:ext cx="248436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ka</cp:lastModifiedBy>
  <dcterms:modified xsi:type="dcterms:W3CDTF">2009-03-18T12:07:4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